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</p:sldMasterIdLst>
  <p:sldIdLst>
    <p:sldId id="256" r:id="rId74"/>
    <p:sldId id="257" r:id="rId75"/>
    <p:sldId id="258" r:id="rId76"/>
    <p:sldId id="259" r:id="rId77"/>
    <p:sldId id="260" r:id="rId78"/>
    <p:sldId id="261" r:id="rId79"/>
    <p:sldId id="262" r:id="rId80"/>
    <p:sldId id="263" r:id="rId81"/>
    <p:sldId id="264" r:id="rId82"/>
    <p:sldId id="265" r:id="rId83"/>
    <p:sldId id="266" r:id="rId84"/>
    <p:sldId id="267" r:id="rId85"/>
    <p:sldId id="268" r:id="rId86"/>
    <p:sldId id="269" r:id="rId87"/>
    <p:sldId id="270" r:id="rId88"/>
    <p:sldId id="271" r:id="rId89"/>
    <p:sldId id="272" r:id="rId90"/>
    <p:sldId id="273" r:id="rId91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" Target="slides/slide1.xml"/><Relationship Id="rId75" Type="http://schemas.openxmlformats.org/officeDocument/2006/relationships/slide" Target="slides/slide2.xml"/><Relationship Id="rId76" Type="http://schemas.openxmlformats.org/officeDocument/2006/relationships/slide" Target="slides/slide3.xml"/><Relationship Id="rId77" Type="http://schemas.openxmlformats.org/officeDocument/2006/relationships/slide" Target="slides/slide4.xml"/><Relationship Id="rId78" Type="http://schemas.openxmlformats.org/officeDocument/2006/relationships/slide" Target="slides/slide5.xml"/><Relationship Id="rId79" Type="http://schemas.openxmlformats.org/officeDocument/2006/relationships/slide" Target="slides/slide6.xml"/><Relationship Id="rId80" Type="http://schemas.openxmlformats.org/officeDocument/2006/relationships/slide" Target="slides/slide7.xml"/><Relationship Id="rId81" Type="http://schemas.openxmlformats.org/officeDocument/2006/relationships/slide" Target="slides/slide8.xml"/><Relationship Id="rId82" Type="http://schemas.openxmlformats.org/officeDocument/2006/relationships/slide" Target="slides/slide9.xml"/><Relationship Id="rId83" Type="http://schemas.openxmlformats.org/officeDocument/2006/relationships/slide" Target="slides/slide10.xml"/><Relationship Id="rId84" Type="http://schemas.openxmlformats.org/officeDocument/2006/relationships/slide" Target="slides/slide11.xml"/><Relationship Id="rId85" Type="http://schemas.openxmlformats.org/officeDocument/2006/relationships/slide" Target="slides/slide12.xml"/><Relationship Id="rId86" Type="http://schemas.openxmlformats.org/officeDocument/2006/relationships/slide" Target="slides/slide13.xml"/><Relationship Id="rId87" Type="http://schemas.openxmlformats.org/officeDocument/2006/relationships/slide" Target="slides/slide14.xml"/><Relationship Id="rId88" Type="http://schemas.openxmlformats.org/officeDocument/2006/relationships/slide" Target="slides/slide15.xml"/><Relationship Id="rId89" Type="http://schemas.openxmlformats.org/officeDocument/2006/relationships/slide" Target="slides/slide16.xml"/><Relationship Id="rId90" Type="http://schemas.openxmlformats.org/officeDocument/2006/relationships/slide" Target="slides/slide17.xml"/><Relationship Id="rId91" Type="http://schemas.openxmlformats.org/officeDocument/2006/relationships/slide" Target="slides/slide1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A3C0-F287-40E9-B646-22C4867F7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2A34-2C22-4C8C-B61F-61BEF9CA47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66EBE-9858-4531-BB04-1F29E1AEC22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0205-329B-45E4-8504-A0CF3EB1F46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2A837-9F35-48C3-ACF5-88F840ADF7B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AB765-F6B0-4D60-89A6-06462F9D03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BCFC-360D-458A-A520-3BBBC372717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22AF1-BCDA-40F5-AD8A-F198A65C3F8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FB68F-6124-4637-8C04-9D38C4AD308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60A1-C114-42FB-9428-139FD9F7E99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B8937-E107-4147-A9DD-31B08838C85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206E-E494-47E3-9C82-9C83D703B73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D43B-AA2B-4ABE-B133-D661760A3D7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04DB-3AD4-4BD9-98BB-B53881C741E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29F20D-C877-4E3A-9FF0-1C7E931D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96BEBD-4B25-40C8-ABF6-A152057A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5BAA9-9DD7-44F2-810C-E98A47A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793FAB-EE6B-467F-A827-47098323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7B5BFD-2F27-4F3F-99E0-050C5F06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A9599-1644-4EC5-902C-48CADFD9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80C0F-0A28-4C41-873D-D0C39B9B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D016-4382-4203-80FF-9F4CE2D93D2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CCB3C-2C68-40CB-92C8-C2917D9C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F0DA6-DEC3-4882-9DB2-E9F28504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49744-797E-4F09-8CFD-7AE5B053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F8FC1-7D4F-4AD5-A691-B879BB6E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98D77-AFD2-4DE6-AEA6-A48767BA1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FB907B-8DD6-4C8F-BA27-335B2989617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5E011E-58EE-4894-9857-16EAFAB3DA2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3DC365-C90D-4EDB-8251-B83C0F30E26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F15E5-F8B0-4485-ABD0-52E0DDEAC47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61F766-D185-4BF1-A8F9-6383AF1C2A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115F2-8A96-4BDF-9B98-02F86DE599A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10E11D-7146-4D65-B59A-A42694AF796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AD0D5C-211F-4DB9-BC49-4C57A42A88E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B6EEB4-54BA-4683-A70E-A6FB30AE5A8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394BEE-0D73-42B5-AA70-3BC7481403F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13CB2B-52B5-4E6B-91A3-B8F628D8A1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6DC882-3442-4343-8216-D09003FCE68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F67E3C-A99F-4DDE-AAF2-707A184A936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C22E15-0DAF-44E4-824E-9891B5C1205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F56A8-9248-48F0-83A1-EB5CF56FD9F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34CC1-A383-4F77-BC4A-6F3167F9AA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508F-2659-4ECF-B60D-2C196D240E5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CE42B9-8415-4E3C-AC2E-075A76ABDFD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E2A803-1CF5-49B9-98D9-70236D62E03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7D960-92E1-4EEA-9038-E2DB63519C6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7A001F-53D5-46FE-A3CD-60CF8C37DAE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02A903-3D18-4300-97CE-755D13A3852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26BBA1-B35F-42FA-856A-CAF2197FE0C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908B1-B49E-4BCF-A5E3-727BC109726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A246B-6C7E-4B03-A8A6-DCC926D7EE1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13B58-2D0F-48F6-A75A-7FAD859BAA1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55EDF-AC35-4BA2-B46C-761915789E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8D46-8F0E-479A-8DBD-0FD4070F97D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65A4F-F825-4187-BB75-4500B50FFD5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4D21A-72E6-42FE-9EAF-E2D3B183D51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DC67-75D4-4A68-8097-87FF2100DDC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5C9DE-C583-4CD8-B2B0-6E71B2F04CC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910BA-D24F-4E12-995E-4728CAEF85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3B6D-8C76-4846-B48E-84B4ABBB7D7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8398-2689-461B-AD7F-380B04F66E2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539B4-9034-4B61-9C2D-5C9CDFD3EB8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2BA3D-FA6A-4791-8AB4-D415BB02C25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A0B7C-3E9C-4B99-B9A2-8100C197EE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EAC6-5A35-407F-AE92-A342FEBB724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824E8-1E82-48D1-BAF6-3431B2E9E42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49F9E1-87AD-4A64-B821-F09C30D935F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BFD160-6CE4-4A31-867A-FEC52F9124E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5BF7A1-5AA0-4CEC-A009-37D22EE30D8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269DC1-A109-4E99-AB3D-339A977914F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E06364-A787-4C9D-A95B-8E661A8D2EE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8BEBAF-A505-40B3-A48E-9AE53E47457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F8FB70-2059-493C-B1C0-6711FB60F6C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849B7E-3BEC-404C-BF9A-2A803684047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D085C0-0037-48AB-946B-87BA56D12B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0A38-B06E-4632-9D6E-789F4EBCA0C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F47D0-C84D-4038-85A3-2DB26308943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E835B4-B5F1-4768-B6B3-C592534304A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F4102A-5D54-4768-AA2B-4A281592ECF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15FF-41F5-42E3-9497-199EB21AF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751B-374F-462A-9320-5464F26D37B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9E15-5E67-41D2-A8D3-E81AFAC6737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A1B13F-BA09-45B1-99F5-FE2169FA5E1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80711-2ADD-4A8B-9BD9-8661BE3B61B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F4227-0771-485F-A479-DAEC28593B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93EFA-7F84-4A40-98E1-29328937D2B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76F59-DF39-4D4E-8225-519EC5560AB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8181E-11C7-40D5-9FAF-40FFBE43691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19C12-10EC-46B4-93BF-0CF5A0A48DA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2D666-E40B-4FB6-987B-691C2324A1E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4FC4E-5620-4A8B-8E3D-2A52636A82A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DFAF11-DBFE-4BC2-8375-76C61787552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8F840-62F9-4B30-ACC2-6885B7D5DFF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00617-9420-4090-B3FD-5517A71AD58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30D576-64B8-4DE1-B20B-15ADB71093E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47422-D2F4-498E-B35E-7430ACE526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DA4E-B9B3-42CB-9AAA-C8C320D7132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64B59-D9B8-4D3C-B374-FF584CE3E20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8398-7A0F-4000-AC13-5C091A06374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8174E-B3E7-4B21-9EFF-DB1E0130AED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8D94-83AB-4E3D-81F0-F2043B09F39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40285-C68B-4E27-8D22-3B13C587832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AA52-C689-4394-85C1-B99BFF9F6BE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E39D9-B92E-44E4-AECB-C0288851303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AA63-DAEC-4DE2-A587-75C67ACDE81F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70D84-4BD5-46FC-A71F-5B1C7FCDE1B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E97A4-AE43-43A8-86E9-220D11F38A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2AE8-CFCB-480E-B3F1-DA4E8C83EFF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7F210-B7B1-4BA9-88CD-E7AEB01F692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237E86-D3A1-4B48-B7B0-C4FC8570990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418EC0-27FA-49B3-85C2-2CC282220D5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9C47ED-1FD0-4C38-A7AA-8606FD32DD8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540FE2-5EBD-4B25-9B06-9BB7C3A8E9A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C12A10-D615-4C36-826B-F70453F3ADE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D84664-65EF-4F3C-81C8-9C15A0A50EE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EC35A9-D0AD-43AC-869B-012A95B88BA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1DE94B-4CC4-4251-A1AB-E28247F5C3E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9E9951-6D26-46DA-A8B3-EB0841FC74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659-1B69-43AD-883E-6102E64D4A0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43C902-924F-43CF-8247-7883BE3CC82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55E540-C1D9-473B-A3ED-27783F884D5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167B58-D28C-422D-A076-5898592754E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B048E-B143-4CA7-90A5-0D28DC2855D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5D5DF-0A06-4708-A429-A4FB05AF59A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6A7C6A-E3FB-402F-A8E3-DE62518F3F0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ED272-E4F9-4048-988D-45FFEB334E3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450C2-0753-40C8-A745-D1176ABF271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0C8B3-8EFD-40FC-A4C1-63DCBC88DE5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A91E1-936F-4601-A65F-B232A4B21B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C54-8053-40BD-BDB2-403EA660E25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8E1964-C403-475B-ABCE-B810E373DA5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03AA7-DC5B-4926-9CF5-3314029D052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40C38-A080-42C4-95DE-2C8420B3D03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02AB09-8918-420A-BA46-17CA7631DC6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3C145-E199-4497-B808-ED642424966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9EBF-6D80-4504-B36E-E794A32C08A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4C0-0D33-4D50-B070-C8A7897767B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8C8-3468-4285-B50E-F57DD98E7C1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1A15-EE7B-4B69-9F70-AC0A59F91E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726-A1B6-49DF-8371-75A630AC977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CF0-45C6-42CF-9983-A51065FD54B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B7BC78-D1F0-46C1-80CF-7D2656742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79A58A-3520-449A-BF32-B08FC37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7C4A9C-4C76-4931-8D08-AEDA7436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9F3470-5C70-411D-8D88-56FC29C6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64BA28-B058-4E41-B128-ABB05DFA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4E1D55-0C72-422B-98EF-83C0603C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92D7F-CDE3-43A7-A8AF-4407EAC1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959-90A9-48DC-B21A-F3723D37A477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BE34F8-0243-4D95-8DE5-A10E8509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74503A-609F-4889-B54B-1E185A2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249E7-2DB1-4FC9-BA1F-8A7B9F0A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75C024-B300-4B55-B5D0-00E8090A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67F955-0516-4962-8785-C19A93EC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AD8AE1-FE48-431F-BE5E-BF6C3FEE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A0E03-F1D4-4CA9-83F0-17BFE4B3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3B89EA-9DC8-4726-9FD2-A4E5DF98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6F6A13-1997-4913-9B54-D41755E2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439C22-44D9-4A56-8C44-B343117D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0CC4-D958-439E-8193-383CE8561936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036FE5-FAD2-4DE8-BAE2-6E8BB90B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575FB8-E33E-4A8E-93E5-01B0A6D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847247-84D9-49B8-9060-74EFFD81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FE5DD7-4B48-4B8B-BAFD-0B2E8D76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6DAD37-975F-44FD-B293-152EDB19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7FDBAB-26A7-4441-AB7A-4E912823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2F36E7-676D-43AD-A302-287F7C54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54A9B4-A3F9-4418-9CBB-746DD73B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DCF1C1-5AA3-4D9F-9457-BA80F73F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4378C5-D006-4F98-A23E-36AA9EBC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7EB-1E2F-4D47-B5D0-DE691141ECA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B49F7C-3D76-46D2-AE9C-6EEEE33E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272988-40F4-48BB-8E4B-E27F2395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453D02-4CFE-4C16-A3CF-79C9FE17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E676AC-DE8A-4DD2-A32E-BD0F460F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638A0B-8309-43E5-8D68-47AC6B53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CD1C05-5578-41A3-BC0A-8C602AB8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1624A6-0A8D-4FE1-BE67-BCACA90A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66BBEA-F877-4705-90D5-C01368E1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577F36-F84E-4E38-B324-980FFE67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4C6DDD-BA6B-4956-92DB-8C4D88C1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C1F-ABF0-4FEF-865A-253ABD4B14D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5940F5-0942-4025-B9FB-4B67670A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116BBA-5E41-4725-A931-0DCAA419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58B0FA-34DE-4315-9511-426C6F13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A57909-A038-48A2-9A96-9327E75A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7FD706-B713-4D1B-A2CA-83B32B22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29803F-7205-4088-AC42-5C6BEDE2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1ACFAB-6030-43EB-9E68-CC962FF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6C5F1E-1D58-4364-8A30-1EFDD0CE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1BE57A-13F6-4E01-8E07-08E14C2D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6FA0CB-A423-4D09-AB05-1F8E90E2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8514-9304-4232-AABA-B34E5B3C6FD9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AD45F8-E3DB-4A57-8ABC-DD90453C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8DAC84-6C4A-4946-9C82-438FD0DB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4A7514-B9C5-4CAE-8394-7F0915D1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96D863-0B8F-41B3-AD74-FEB83E66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8F532E-95DF-49EB-B179-E17F509D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7B181E-AEF7-4021-B7FF-D53ABD10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31C578-5F27-4BAE-822E-F66E3CE4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F5E001-BDD2-43F3-8E6F-5C635930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7A77F1-DA6E-4E6C-8585-072C2A2E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B2890A-5196-43A1-B5EA-63E48FBE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A7B52-E945-4B94-8C76-B330C417D48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A5C257-AFCD-4C25-B43D-59030E43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52F23F-51A2-474E-B895-67CF70E3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C895F2-3B96-4284-BEE4-939C5D8A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AB4DB-E5C6-49A4-B530-D9FCBECB5885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67B1E-ECD5-455B-9894-5A96375A1BCD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6148-35BB-461C-BB19-D00B24769F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5EFC6-2CA3-4692-8BCB-FABAAE000EAA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36132F-B277-4D6D-B84F-23B8E104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C28AE-C781-4039-8686-143B6E8FAC3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3C2EF5-4CBA-46A4-BC5F-04308C86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56AA86-866F-4AB7-AA40-DCBC62FF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8F81DD-4A1E-4867-B0DD-52132562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4A93E3-A27B-4172-8019-C089EFB3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7366AC-6A6D-41C6-A26C-610ACAB0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181AC7-9F86-40F1-8FAE-D4E8BBC5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E8EEB2-B8E5-47A1-AE66-3870BA50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9177FA-58D4-4C54-9B29-2CBCE2A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B8EA21-3BBD-44EA-BF43-926F5229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CFE044-D34F-4EC4-885B-32842883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210EB-8975-4F62-8C9E-568B8906570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7DC802-184C-48B0-9D57-E5743BA9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5C2119-8D8D-438C-BE62-DC037497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701A18-B7F5-4858-8F53-35555D8B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5A5659-4E4B-4682-AAA2-B5E5732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634651-46EC-41FF-8B56-E7ECAC1B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BCBCAF-4A15-4D11-B48D-20716444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EB4C01-66D8-45AC-BA6D-845D45EA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72232C-1287-4A6A-A02D-9A359083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03194B-6DF6-4467-886B-03F50EC5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22BB21-4B55-4C3B-B3F0-8AB83E7A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B82D6-2B28-469F-84D1-3BC75DBC64FA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15A380-6408-4FB8-A5D3-A7B163CF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76B5BA-020E-42A6-A330-5DDAAE91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25184B-1543-48ED-B6AA-7B0628C0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8DFB91D-4163-45BC-92E9-DECA01E8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639D08-3CD7-4EAC-9BEF-02FE69D9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2DB228-0279-49EF-81A8-896E2B31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3567DF-6728-420E-B7E0-D1171460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63768F-5C5C-4F3A-888C-3FE909BB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A6911D-1F4A-4183-AB42-61881D7B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AAFE31-A85C-4510-9909-AD227792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6E1B8-81C1-4D53-8C36-7239EB9DC951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6DCD0B-C944-48FE-A009-E0774C6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1420CF-65C7-4384-B15B-E9DF671D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8844C8-2442-45EC-920C-8A8518A5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B73B4B-BDD1-491F-B758-BCE21A4D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A356EB-7686-40FE-B3A0-04A1C85E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AFC092E-09F7-4676-84A0-0AC89E91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EFF667-136D-4E9F-BA48-9411E9A3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676542-C877-4186-86C5-70079C28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83160C-B19E-4147-B098-E4B73E55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0F546D0-E037-4238-B6CE-7C64F690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8AE95-6407-411C-87C9-CD6A436B7823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AFCF95-1C08-4E74-BBA7-3620D60A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0E117E-EEEB-4775-B314-D553F320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334CF44-90D8-4ED0-89EB-7152DB7A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001D90-7591-44DE-B3DF-C7B58264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AA7B2C-EB96-48CA-AA76-C4072546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8A9371-AEF1-43FC-B832-A2B77A1B1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E0A8C68-DCD4-41F8-957B-BDE8F4AC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7092CC-CD2F-4394-9E82-E19F1414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6C2B73-09EF-455B-9D22-12764B0E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E191B0-FBC8-4211-81CC-F4D71E29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23EDC-045C-4D9A-81B3-28A97F9CC33A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B2193B-4A15-4295-8DE2-4EDB210A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63C844-5DA7-4DD8-AB16-2A022BD6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A44D9E-42AA-4994-B3F5-DC7D2FA8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A3196D-ED4D-4E8C-A074-CB9221C2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E7CE6C-FFF9-45EF-A873-B85D1E73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3BB892-FA54-438C-80BB-9E46A421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F4D19A-2D64-4C24-8C75-CC484F34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B7DF95-0A2A-4C6C-AB35-E907BB68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35666B-7E9A-457B-BB46-1229C4E4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CCAF8-3674-4270-A787-A7B579D6DBD5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A6E8E-1E8A-44D1-A0C7-E029DD0A24D2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4B944-F623-48FF-BBA0-01CDEDEBBE4C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2606-8C48-41B4-B479-FC49842EE2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19AB1-BFA0-4EA5-8B0C-2798CCD31E92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A32F19-2B75-4D77-9517-77CF59C2A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97FD12-6515-4DE8-A459-7366A2F3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2532A5E-C309-4BFD-8B36-44FD0DEA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2C6129-69F0-499F-8BBE-06A4A83A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DAA541B-8E80-459B-B9EE-7356BB55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D21E3-CDA4-4705-B8E9-718098475D03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979675C-4F97-44F5-960D-DCC268C8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52E93C-3488-490F-BB2A-CA0B23D3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D0B5299-772C-42B4-A442-763F6E93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58B889-F02B-493F-B070-4D80C67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7B0CB70-07B0-4036-B162-E2606F94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310DC48-E17C-4D74-860F-82DEC0BD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8722389-6B98-487D-B56E-AA6221E7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181316-F0CB-42A3-B059-402546D5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EDF640-2F2D-4EF3-8B0D-5C2383EE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473CD71-1ECF-46CB-B04F-1AFB0AA3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7D11A-FA4C-4660-851F-20F92D4281ED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0540154-5667-4B05-B842-B3FC25E6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FE1FBF-10E4-4725-A27E-6ED833CA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9B26636-7400-44FF-BF00-E9D05B0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6AE4CE-D39D-4687-9C68-C365C40D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01FABE-D7CF-485F-856B-70A64103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3BB006-3145-4C88-BBBB-5487F14D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22DD13-C959-4A0E-8F17-F56A4D7D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C2AFA9-1B1C-4776-AC43-9D6AC37A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B039D23-C3E2-4F8B-BE50-B7B87960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EE4D58D-96E6-4516-9D21-1D35E3D3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DC885-3613-4D33-9B25-D0E1D00F0EFC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C1B8B5C-4A8C-4146-8679-7AECC29E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447EFE-C1BC-4BFD-8E77-64D1000E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50288B7-299E-48AF-B55B-8B851980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817646-5D41-451A-8691-53AFD6CE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58A2F3B-A8C6-403F-9C68-1ACC942B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B871FD0-A896-474D-BAA5-1D7C5E5B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44AE9EC-6790-441B-9FCC-AC950EC8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1C8698-FC2D-49F9-B186-6BB17EA1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8B8AB5-0C30-405A-BA47-A3931094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7A7906-88ED-4520-8A91-D13A1025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25DF6-F022-4FC9-9628-7D80ABFBA238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756B0C-9390-4A06-9272-171C891D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D84356-9056-42B6-A82F-72FB836A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15E5EE2-FBB5-4AF3-AC11-8D0BA430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FF879A-3D6F-49ED-8407-8B63A577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6CBA545-AFF1-48D0-9E7C-767F7950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969EE0-1219-4A3B-B66D-E7D92B4B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708596-4184-4C51-ACF9-23636588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57B5CE8-51FD-4BAD-8B32-33E4A8E2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A0F1186-D442-49FD-8ABD-F76A1BD2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9EEF180-95DC-4922-8DBD-D2FC9DA9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0B426-0059-4717-8434-A400B73032CB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1FDE734-1CCE-4343-BC5E-6263100A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8D93149-EB0F-4EF4-9ACF-E1A2B111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8C37B4C-EE43-405C-B5E9-1F86712E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551A8C8-F7EC-4A16-A6E2-2D993998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29E9F56-9375-46B7-A0DE-52CEFFDC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665A380-4F38-4912-B08E-1D7BF8B1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264FACC-8673-4CB1-AB9D-A831181D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EC551F-16E0-4CD7-9E97-B2F7A37A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0E896F2-04FE-4C34-BF89-EB2380E2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E1A19E6-A544-4869-A076-F3CE2C65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FE247-8B54-42A0-B357-CA574EB1848B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892932-23D5-4907-A4B6-B2B35B54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3A8B69B-9F01-4D4C-9C11-1EEB7F3B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94D7474-96D4-417D-A611-3161A2E9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9F10792-7917-49EB-9573-256A0D02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9F65CF6-2985-4F45-B13F-7846CF2B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F0C05-7041-4962-961B-1650DC7AC251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5D31F-693D-47EF-B7BE-007ED96EB7CC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5F53B-F275-4153-BE8C-1C4865BE0F05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56A8-7B6D-4324-B000-03193EBEAD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F7065-2715-4154-9B4B-7DEF1225F62D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BC2373-715A-4205-8A6A-E54B5037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206FF1-F11E-4007-B6EC-8B089358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A8ADD8B-1103-40ED-BC76-F5B84C32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E881E1-B1DE-4328-9CC4-1E888B3C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34CBF62-E619-4A26-A94C-4813B496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D492592-A49A-4A8D-BF6F-31D02A61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A069690-D05B-4E10-B079-A4FF3969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798BE86-BAA4-43F0-A500-E3224B59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3CF49EA-1C07-4570-881B-EC1FACA1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50D2-D614-44CC-AF12-184220C1869B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9AE258-E906-4F37-832C-6270F6BC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2816063-219A-4FA4-A642-8FF32792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CEF4008-5238-417B-A563-451BB333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3C7F0AB-A8CB-4C3E-B81B-F44F023E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9DA016D-10BC-4B66-8801-E4C45D9F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E0381B4-7204-45E0-A058-132F4725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EF9799F-EF5C-4EB2-A466-4FF18865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D6DFFF-D849-471A-80A8-6C6C0890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9905E32-476C-4C6C-9F8A-50ADBFB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8CA25CF-06FF-4BAD-908B-5E8940BB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E7ACD-8680-472D-83F5-18851FF5C09D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96E022-0213-43F8-BC0A-B71B69E0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D69E2BB-A399-42E5-90A6-EEDBB948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12A2D98-7590-43D6-8F7A-B1D8F337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EFB687D-715F-4FEA-A7AE-2093E0E9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91AD143-D392-4E74-8456-3A6D5232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4CCB6C-EECE-40DC-B7E1-A5398A1D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5088C57-99B5-4E0F-8B6E-8D1BEC1A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B95A480-E998-4977-8CEF-8EEDC116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A6FCFFA-4602-4B04-874D-82FB5520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73A35BD-FA9D-4CAE-A8C7-41D83E81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3FB2-3044-4908-891B-CC29062D3919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251B13-BE60-48C9-AA7D-F7DFA176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865118F-F407-4EB8-86B7-B4142D7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7A91C9C-B9B7-4F75-BF15-10E26EE2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061F67-5EF2-4813-8EC5-E052020F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EA87DAE-3639-44B0-A819-92147227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C12B8DB-CA58-48BB-A8DE-A9A31811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B2CC930-8278-49C5-A999-4A352D60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799CCCB-A178-4B20-A78B-FC590ED5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C091CBC-8CDA-4F17-B57B-2CC3501E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E5861E6-A8CE-410B-9892-5F90888E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CF66-EE64-41FB-8555-2301F715629D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34F5024-DEED-40E1-A7CF-26465B81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1A8567A-AF6F-4A66-8CB7-C8251F33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6BC54A9-FDAE-4233-8FCF-C1B6CEB6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FA3AD72-E293-47CC-A22D-EBF75495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91843BA-5486-460D-A414-406C5FFD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B2D63BB-FCB4-477C-B4B9-27366FE7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7C8F5A6-AC4A-485C-A21F-B8AEE88D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CE047EB-37C7-4041-9E1F-4BB51C53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AFAE208-6C61-4A10-B113-A21545B7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427BEAA-185A-4FF7-A88B-C7CD96EC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70F1-7DE6-4301-99F5-E93AA893CF67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E278205-8D68-44C7-8CDB-FEEC4077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FD1F5E-0A45-43CE-B311-8CF0DAD9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E5737C1-9746-4CA1-83D2-55A9793B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BAB350F-9963-4609-95B1-1A0F1108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2CE73C8-91EB-4525-96C0-23721F10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5092FC6-B280-489F-9E1D-62BE905D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0BAB833-74C2-4264-AECE-DBEE181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1915B2-7232-4A2A-8149-8E28C8F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79D79F7-2CB3-4112-9ED8-B60AC0B4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7A757EC-29CC-4D22-A8E4-86EEA2C8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D606-AD9F-4930-83C8-93BE859ED832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D01F371-7A2B-4C3A-ADCB-3B291CD2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F835-221A-494D-BFE1-43FBE94809A7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9AEA-7020-4741-9EC1-B7ADE119BBEE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7009-5D7B-41FA-B95B-318303FFE23A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0CC556D-A4CF-43F5-9585-B90B00A1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A7975A0-04F1-4942-B794-5CE53CB0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CDCD787-391B-4C26-AB00-2799265C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BC3C-AFF1-4DAA-90FF-5F151DFC409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2165-EC41-466E-8ACC-5441BF849DF0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438CCD1-B7D9-4F08-B35F-B53472A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F4EA2F3-D043-4FC9-88B5-420B5B7D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7B2F681-DB56-4C0A-9311-A972F3F6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F646680-2B13-4F93-B2CC-43A264DB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EEBB90C-18F6-4061-AA0F-54EAB597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53ABE5B-D21B-440A-AE5C-62808BC3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5E4897F-63B9-434B-BF02-525121D4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75A5163-3E20-4F66-BAD2-3E5F9E04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426A561-0213-471C-A0A5-56180EE4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9E19AA-6D04-453D-854C-0BC31D26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E9B3-6AE3-43EE-9E75-6CECD3587FC7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9EFEF94-9B55-4C7B-BED6-6B71D1CA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0386656-F8E5-4909-A54F-9B20EDDA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8FEEE5A-692E-47F9-B648-CE9066D4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F4ADA21-E4A0-4801-ACF5-AF81D7DB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35D90A3-65F3-42E0-A4CA-BE055D02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D785CF6-848B-421C-89D3-D8E19F30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CBE3C1E-4B6C-4534-A655-770B4611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4A45129-F12C-4C69-A558-808A7CB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04C131A-9C1C-45AA-BB90-09C18B95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21318FB-3C1E-45D4-8575-328C367E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6A09-DAA6-4530-98CC-2CC9C3EEC41A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1C3A017-55AB-41B4-9509-247A0DABD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FBFFD5D-B547-44F7-BE99-A87B78FF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9B35D90-79F2-44AA-871C-09BB32B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1D82E7E-7AC1-411C-91A0-F96AFA17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031F7D8-2B9E-4C3D-89FB-01D879D8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3AE96FE-C62A-4446-9401-AD9113FC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82B8459-C1CB-4074-AC73-B1A4FDB6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61AC613-D6EB-44DA-838D-E9BBE6DB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9899A1C-B5C0-41E6-9623-31681E70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11847ED-469B-4D00-A482-90535004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A85A22-79D9-45F1-A692-F9B5E6B4799C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58BB1BC-A684-4EE2-8EA6-B3F2404C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3284247-8DAF-4984-83E6-BA7C6973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A6FF6F3-A686-4305-A584-325FD993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FA6FEFF-B984-42F7-807D-55164FF0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F95BBF3-2051-4854-8BB2-F93C2305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BAE5D9E-44F8-4E36-ACA1-B6C52D2B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7A6CC47-C330-45DF-91D5-E87413E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E6D1477-AC8A-4F18-B1F3-8D5CBC32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9DA9CD0-E553-4087-82DC-75A9A055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47E89DD-C730-4723-AD90-F02980E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27ADF-9DB0-487A-8E24-5A2F085FA7C0}" type="slidenum">
              <a:t>&lt;#&gt;</a:t>
            </a:fld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9AB2B7C-0ADB-451F-9B28-70F3446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52AC31A-BFEB-4531-91DE-129D0EA6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D9E43A4-8C4A-4E5E-944F-2A6F412F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9A07A72-A6EF-4B5E-9FEF-A8A7514E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0D0BE70-E849-4DEB-ADB5-E59C1E7F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02DFBBC-2C4B-4697-8AFA-AC155D52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6D9FFB8-6E01-4C9F-871E-709D7676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2B3CA96-B982-40FE-B886-E45C80F9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501DFA4-0482-4494-9F41-4ACF5B2D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8E83CA4-8117-4F33-97EC-7A7F1272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0DA67-EDE8-4336-83FB-36545DB1FB02}" type="slidenum">
              <a:t>&lt;#&gt;</a:t>
            </a:fld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2D9F2FE-3DAF-4383-92B8-9BC1080B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665DE2C-6C37-4CFF-B004-1234668F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BC96811-C9A1-4B3F-93B6-845F6E4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2C01AE9-73AB-4793-B2C8-B2788D3F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6B3E4F7-D266-40A3-B443-729C3402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DD36404-82A7-4172-B28D-DE5CC728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23A2110-67C2-46E3-84A4-8861EEDD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3FFA13-24C8-4EF1-87F1-27316C79D9D5}" type="slidenum">
              <a:t>&lt;#&gt;</a:t>
            </a:fld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33756-6B2F-49BE-BF5D-C03C0ED6E59C}" type="slidenum">
              <a:t>&lt;#&gt;</a:t>
            </a:fld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1F699-5929-4BB4-9321-6325A5EB54CC}" type="slidenum">
              <a:t>&lt;#&gt;</a:t>
            </a:fld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2D5DE-D2BE-4A4E-B0EE-1970FDC5D492}" type="slidenum">
              <a:t>&lt;#&gt;</a:t>
            </a:fld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E615B6E-C78F-4389-BA87-FF346610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FBFCA30-A032-4B31-88E5-31A3CC9D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6414A24-921B-4EE1-8625-C2D9E225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B17AF56-D691-4006-85A7-7DF4044C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2FBF9EC-9A92-46BE-802C-60AB2C9E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BB073C6-8577-48F4-90B0-2B6DBBAF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60B2E1C-426F-460E-B50F-1668982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F312-7570-48E8-A57C-55B7D8CD726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3CFA0-F903-4BFD-A30F-E8D30E7938AF}" type="slidenum">
              <a:t>&lt;#&gt;</a:t>
            </a:fld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EA3165E-C9D4-4367-AD7B-7201816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C8AC48A-3804-4DB6-9894-458AD1BD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D9AD092-368F-4544-987F-D1DFEC79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30714D2-75EF-483E-9088-D6C64A3B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4E68665-6A8B-41A7-8497-C57049A8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6EB815B-565D-4930-8A17-93832E8F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ADA46EF-4264-4D6E-96E9-9084FE90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2D6744C-41B3-4241-BBFB-3A04F913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2381474-B858-4873-97CB-A2CE9AB3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A343F0C-1748-43AB-A7AC-61C845F3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B5C6F1-91CE-4193-9796-5429ACE4501B}" type="slidenum">
              <a:t>&lt;#&gt;</a:t>
            </a:fld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98CA244-417D-487B-B492-447E9A1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692768A-8626-4332-91C6-6220F48F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B328CBF-7EF8-49E3-BE82-5DF13D7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1938FFE-9E3E-47E3-AB47-833CB1EE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63A1E2C-EC2F-4FAB-A341-2310A461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18B7B6B-2AE0-4DB5-9A99-AEDCC2BF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5C4BA70-3A01-417D-B8E3-0803B547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8F98261-F4D4-4588-9B23-0F08CE39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D902EF1-3008-4DCF-9A42-93738E0E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5D9098A-FD3A-4370-90C2-8425F6C1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27A28-C22F-4FB4-B4A5-A2F5C7946FF0}" type="slidenum">
              <a:t>&lt;#&gt;</a:t>
            </a:fld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FDC7299-CA75-44C4-95E1-2364A971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E0A786E-3EDA-46E2-83E7-1A155DAC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456EA66-D124-4F45-B315-86A944F8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7243D7B-7E05-4D81-9959-DBA209C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6EBD7E5-601E-4954-9487-C3727DFB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A06898E-883D-4A83-8EAD-A0E35B7C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BF02F40-2106-4122-B7F4-C1A87579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DBCD605-70B3-4515-BE8D-A264F3B5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04BE00D-56D1-4DE0-B06F-15B0B860F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CC26DEB-9C00-46E3-A9BE-F6A23335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5D8B1F-DC0C-4E94-9547-B5D499356E08}" type="slidenum">
              <a:t>&lt;#&gt;</a:t>
            </a:fld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99C744E-14EE-4814-968F-3A7F58E9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891C889-EC98-42E1-A4B7-9193F8E2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881F1310-3B41-4AA8-922E-987D9E5B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857891E-3540-41D0-AB8D-8521CEA2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88625EB-34E3-41B3-BE81-2F9FBE3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32A7F5B-38AD-4371-A145-25FB85D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6FE0532-12D8-41F8-9262-205F3F56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CFA7509-D6E1-43E3-A9A0-838029F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ADBC77A-A5A8-4E69-A19F-E432D77D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DBC201E-D6B5-42E1-91CE-ECF4CE9C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9F38D0-6E96-4206-BB9E-58DA8E5E2BB4}" type="slidenum">
              <a:t>&lt;#&gt;</a:t>
            </a:fld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A47F285-07C9-48D6-A86C-7ECA5CB0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A501E49-30DE-43B6-80A3-1439B3A4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1A996D1-3977-48C7-A356-AD2E295E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96C5BF5-36E7-4233-B51E-60776ECC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1088FE6-CE8D-478F-B5FB-B3D4D5A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645D495-9F38-43B2-9EA1-345B4004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6ADEC97-C3B7-425A-A15A-BB4FD17F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0E64DDD-607B-463C-AE75-640D2CF8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5469449-24DB-4A99-8263-151326F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959CBD2-AE24-4EB1-959D-9017BD4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D80AF-C527-4D0E-933E-F28B5DAD174F}" type="slidenum">
              <a:t>&lt;#&gt;</a:t>
            </a:fld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975DE9E-E92E-420D-B300-49DF6D6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F9D54A6-3673-4EA1-94E7-66DE81F0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0E930F3-8F0B-4ADF-81C4-43EA6896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A9DDB-125C-4D29-972F-333EC70F8325}" type="slidenum">
              <a:t>&lt;#&gt;</a:t>
            </a:fld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0EB88-9DF8-4C22-9A56-3D538891267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671DB-BE33-4FA4-8F65-4557C94041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F2F6C-3CD7-447A-8B1B-90268BAB7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7A3C-ADFA-4C6B-9CA1-18B0F80E7A7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60B98-1DB2-4750-8714-E1AB0FB62B4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B9A4B-C01C-4EC9-9F2F-B0D22CCFEFC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D13EE-F743-4E13-AB0D-8EA3F412F22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E119D-9064-481A-AFBF-ABB5CD6C09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BEC80-9844-4D49-904E-9FA806A76B2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0F9BDE-998D-43DE-9D2D-EBE96BA0251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61B629-2E80-40D7-A42A-9C99D2045E2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3DB71-7C42-41A7-B638-8667C67A63B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5A612-3790-4A00-887F-3D4C5995FD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E2ABE-3366-47EF-BAB3-9B4B04559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85.xml"/><Relationship Id="rId8" Type="http://schemas.openxmlformats.org/officeDocument/2006/relationships/slideLayout" Target="../slideLayouts/slideLayout386.xml"/><Relationship Id="rId9" Type="http://schemas.openxmlformats.org/officeDocument/2006/relationships/slideLayout" Target="../slideLayouts/slideLayout387.xml"/><Relationship Id="rId10" Type="http://schemas.openxmlformats.org/officeDocument/2006/relationships/slideLayout" Target="../slideLayouts/slideLayout388.xml"/><Relationship Id="rId11" Type="http://schemas.openxmlformats.org/officeDocument/2006/relationships/slideLayout" Target="../slideLayouts/slideLayout389.xml"/><Relationship Id="rId12" Type="http://schemas.openxmlformats.org/officeDocument/2006/relationships/slideLayout" Target="../slideLayouts/slideLayout390.xml"/><Relationship Id="rId13" Type="http://schemas.openxmlformats.org/officeDocument/2006/relationships/slideLayout" Target="../slideLayouts/slideLayout391.xml"/><Relationship Id="rId14" Type="http://schemas.openxmlformats.org/officeDocument/2006/relationships/slideLayout" Target="../slideLayouts/slideLayout392.xml"/><Relationship Id="rId15" Type="http://schemas.openxmlformats.org/officeDocument/2006/relationships/slideLayout" Target="../slideLayouts/slideLayout393.xml"/><Relationship Id="rId16" Type="http://schemas.openxmlformats.org/officeDocument/2006/relationships/slideLayout" Target="../slideLayouts/slideLayout394.xml"/><Relationship Id="rId17" Type="http://schemas.openxmlformats.org/officeDocument/2006/relationships/slideLayout" Target="../slideLayouts/slideLayout395.xml"/><Relationship Id="rId18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81.xml"/><Relationship Id="rId8" Type="http://schemas.openxmlformats.org/officeDocument/2006/relationships/slideLayout" Target="../slideLayouts/slideLayout482.xml"/><Relationship Id="rId9" Type="http://schemas.openxmlformats.org/officeDocument/2006/relationships/slideLayout" Target="../slideLayouts/slideLayout483.xml"/><Relationship Id="rId10" Type="http://schemas.openxmlformats.org/officeDocument/2006/relationships/slideLayout" Target="../slideLayouts/slideLayout484.xml"/><Relationship Id="rId11" Type="http://schemas.openxmlformats.org/officeDocument/2006/relationships/slideLayout" Target="../slideLayouts/slideLayout485.xml"/><Relationship Id="rId12" Type="http://schemas.openxmlformats.org/officeDocument/2006/relationships/slideLayout" Target="../slideLayouts/slideLayout486.xml"/><Relationship Id="rId13" Type="http://schemas.openxmlformats.org/officeDocument/2006/relationships/slideLayout" Target="../slideLayouts/slideLayout487.xml"/><Relationship Id="rId14" Type="http://schemas.openxmlformats.org/officeDocument/2006/relationships/slideLayout" Target="../slideLayouts/slideLayout488.xml"/><Relationship Id="rId15" Type="http://schemas.openxmlformats.org/officeDocument/2006/relationships/slideLayout" Target="../slideLayouts/slideLayout489.xml"/><Relationship Id="rId16" Type="http://schemas.openxmlformats.org/officeDocument/2006/relationships/slideLayout" Target="../slideLayouts/slideLayout490.xml"/><Relationship Id="rId17" Type="http://schemas.openxmlformats.org/officeDocument/2006/relationships/slideLayout" Target="../slideLayouts/slideLayout491.xml"/><Relationship Id="rId18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77.xml"/><Relationship Id="rId8" Type="http://schemas.openxmlformats.org/officeDocument/2006/relationships/slideLayout" Target="../slideLayouts/slideLayout578.xml"/><Relationship Id="rId9" Type="http://schemas.openxmlformats.org/officeDocument/2006/relationships/slideLayout" Target="../slideLayouts/slideLayout579.xml"/><Relationship Id="rId10" Type="http://schemas.openxmlformats.org/officeDocument/2006/relationships/slideLayout" Target="../slideLayouts/slideLayout580.xml"/><Relationship Id="rId11" Type="http://schemas.openxmlformats.org/officeDocument/2006/relationships/slideLayout" Target="../slideLayouts/slideLayout581.xml"/><Relationship Id="rId12" Type="http://schemas.openxmlformats.org/officeDocument/2006/relationships/slideLayout" Target="../slideLayouts/slideLayout582.xml"/><Relationship Id="rId13" Type="http://schemas.openxmlformats.org/officeDocument/2006/relationships/slideLayout" Target="../slideLayouts/slideLayout583.xml"/><Relationship Id="rId14" Type="http://schemas.openxmlformats.org/officeDocument/2006/relationships/slideLayout" Target="../slideLayouts/slideLayout584.xml"/><Relationship Id="rId15" Type="http://schemas.openxmlformats.org/officeDocument/2006/relationships/slideLayout" Target="../slideLayouts/slideLayout585.xml"/><Relationship Id="rId16" Type="http://schemas.openxmlformats.org/officeDocument/2006/relationships/slideLayout" Target="../slideLayouts/slideLayout586.xml"/><Relationship Id="rId17" Type="http://schemas.openxmlformats.org/officeDocument/2006/relationships/slideLayout" Target="../slideLayouts/slideLayout587.xml"/><Relationship Id="rId18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61.xml"/><Relationship Id="rId6" Type="http://schemas.openxmlformats.org/officeDocument/2006/relationships/slideLayout" Target="../slideLayouts/slideLayout662.xml"/><Relationship Id="rId7" Type="http://schemas.openxmlformats.org/officeDocument/2006/relationships/slideLayout" Target="../slideLayouts/slideLayout663.xml"/><Relationship Id="rId8" Type="http://schemas.openxmlformats.org/officeDocument/2006/relationships/slideLayout" Target="../slideLayouts/slideLayout664.xml"/><Relationship Id="rId9" Type="http://schemas.openxmlformats.org/officeDocument/2006/relationships/slideLayout" Target="../slideLayouts/slideLayout665.xml"/><Relationship Id="rId10" Type="http://schemas.openxmlformats.org/officeDocument/2006/relationships/slideLayout" Target="../slideLayouts/slideLayout666.xml"/><Relationship Id="rId11" Type="http://schemas.openxmlformats.org/officeDocument/2006/relationships/slideLayout" Target="../slideLayouts/slideLayout667.xml"/><Relationship Id="rId12" Type="http://schemas.openxmlformats.org/officeDocument/2006/relationships/slideLayout" Target="../slideLayouts/slideLayout668.xml"/><Relationship Id="rId13" Type="http://schemas.openxmlformats.org/officeDocument/2006/relationships/slideLayout" Target="../slideLayouts/slideLayout669.xml"/><Relationship Id="rId14" Type="http://schemas.openxmlformats.org/officeDocument/2006/relationships/slideLayout" Target="../slideLayouts/slideLayout670.xml"/><Relationship Id="rId15" Type="http://schemas.openxmlformats.org/officeDocument/2006/relationships/slideLayout" Target="../slideLayouts/slideLayout671.xml"/><Relationship Id="rId16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73.xml"/><Relationship Id="rId8" Type="http://schemas.openxmlformats.org/officeDocument/2006/relationships/slideLayout" Target="../slideLayouts/slideLayout674.xml"/><Relationship Id="rId9" Type="http://schemas.openxmlformats.org/officeDocument/2006/relationships/slideLayout" Target="../slideLayouts/slideLayout675.xml"/><Relationship Id="rId10" Type="http://schemas.openxmlformats.org/officeDocument/2006/relationships/slideLayout" Target="../slideLayouts/slideLayout676.xml"/><Relationship Id="rId11" Type="http://schemas.openxmlformats.org/officeDocument/2006/relationships/slideLayout" Target="../slideLayouts/slideLayout677.xml"/><Relationship Id="rId12" Type="http://schemas.openxmlformats.org/officeDocument/2006/relationships/slideLayout" Target="../slideLayouts/slideLayout678.xml"/><Relationship Id="rId13" Type="http://schemas.openxmlformats.org/officeDocument/2006/relationships/slideLayout" Target="../slideLayouts/slideLayout679.xml"/><Relationship Id="rId14" Type="http://schemas.openxmlformats.org/officeDocument/2006/relationships/slideLayout" Target="../slideLayouts/slideLayout680.xml"/><Relationship Id="rId15" Type="http://schemas.openxmlformats.org/officeDocument/2006/relationships/slideLayout" Target="../slideLayouts/slideLayout681.xml"/><Relationship Id="rId16" Type="http://schemas.openxmlformats.org/officeDocument/2006/relationships/slideLayout" Target="../slideLayouts/slideLayout682.xml"/><Relationship Id="rId17" Type="http://schemas.openxmlformats.org/officeDocument/2006/relationships/slideLayout" Target="../slideLayouts/slideLayout683.xml"/><Relationship Id="rId18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57.xml"/><Relationship Id="rId6" Type="http://schemas.openxmlformats.org/officeDocument/2006/relationships/slideLayout" Target="../slideLayouts/slideLayout758.xml"/><Relationship Id="rId7" Type="http://schemas.openxmlformats.org/officeDocument/2006/relationships/slideLayout" Target="../slideLayouts/slideLayout759.xml"/><Relationship Id="rId8" Type="http://schemas.openxmlformats.org/officeDocument/2006/relationships/slideLayout" Target="../slideLayouts/slideLayout760.xml"/><Relationship Id="rId9" Type="http://schemas.openxmlformats.org/officeDocument/2006/relationships/slideLayout" Target="../slideLayouts/slideLayout761.xml"/><Relationship Id="rId10" Type="http://schemas.openxmlformats.org/officeDocument/2006/relationships/slideLayout" Target="../slideLayouts/slideLayout762.xml"/><Relationship Id="rId11" Type="http://schemas.openxmlformats.org/officeDocument/2006/relationships/slideLayout" Target="../slideLayouts/slideLayout763.xml"/><Relationship Id="rId12" Type="http://schemas.openxmlformats.org/officeDocument/2006/relationships/slideLayout" Target="../slideLayouts/slideLayout764.xml"/><Relationship Id="rId13" Type="http://schemas.openxmlformats.org/officeDocument/2006/relationships/slideLayout" Target="../slideLayouts/slideLayout765.xml"/><Relationship Id="rId14" Type="http://schemas.openxmlformats.org/officeDocument/2006/relationships/slideLayout" Target="../slideLayouts/slideLayout766.xml"/><Relationship Id="rId15" Type="http://schemas.openxmlformats.org/officeDocument/2006/relationships/slideLayout" Target="../slideLayouts/slideLayout767.xml"/><Relationship Id="rId16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69.xml"/><Relationship Id="rId8" Type="http://schemas.openxmlformats.org/officeDocument/2006/relationships/slideLayout" Target="../slideLayouts/slideLayout770.xml"/><Relationship Id="rId9" Type="http://schemas.openxmlformats.org/officeDocument/2006/relationships/slideLayout" Target="../slideLayouts/slideLayout771.xml"/><Relationship Id="rId10" Type="http://schemas.openxmlformats.org/officeDocument/2006/relationships/slideLayout" Target="../slideLayouts/slideLayout772.xml"/><Relationship Id="rId11" Type="http://schemas.openxmlformats.org/officeDocument/2006/relationships/slideLayout" Target="../slideLayouts/slideLayout773.xml"/><Relationship Id="rId12" Type="http://schemas.openxmlformats.org/officeDocument/2006/relationships/slideLayout" Target="../slideLayouts/slideLayout774.xml"/><Relationship Id="rId13" Type="http://schemas.openxmlformats.org/officeDocument/2006/relationships/slideLayout" Target="../slideLayouts/slideLayout775.xml"/><Relationship Id="rId14" Type="http://schemas.openxmlformats.org/officeDocument/2006/relationships/slideLayout" Target="../slideLayouts/slideLayout776.xml"/><Relationship Id="rId15" Type="http://schemas.openxmlformats.org/officeDocument/2006/relationships/slideLayout" Target="../slideLayouts/slideLayout777.xml"/><Relationship Id="rId16" Type="http://schemas.openxmlformats.org/officeDocument/2006/relationships/slideLayout" Target="../slideLayouts/slideLayout778.xml"/><Relationship Id="rId17" Type="http://schemas.openxmlformats.org/officeDocument/2006/relationships/slideLayout" Target="../slideLayouts/slideLayout779.xml"/><Relationship Id="rId18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3.xml"/><Relationship Id="rId6" Type="http://schemas.openxmlformats.org/officeDocument/2006/relationships/slideLayout" Target="../slideLayouts/slideLayout854.xml"/><Relationship Id="rId7" Type="http://schemas.openxmlformats.org/officeDocument/2006/relationships/slideLayout" Target="../slideLayouts/slideLayout855.xml"/><Relationship Id="rId8" Type="http://schemas.openxmlformats.org/officeDocument/2006/relationships/slideLayout" Target="../slideLayouts/slideLayout856.xml"/><Relationship Id="rId9" Type="http://schemas.openxmlformats.org/officeDocument/2006/relationships/slideLayout" Target="../slideLayouts/slideLayout857.xml"/><Relationship Id="rId10" Type="http://schemas.openxmlformats.org/officeDocument/2006/relationships/slideLayout" Target="../slideLayouts/slideLayout858.xml"/><Relationship Id="rId11" Type="http://schemas.openxmlformats.org/officeDocument/2006/relationships/slideLayout" Target="../slideLayouts/slideLayout859.xml"/><Relationship Id="rId12" Type="http://schemas.openxmlformats.org/officeDocument/2006/relationships/slideLayout" Target="../slideLayouts/slideLayout860.xml"/><Relationship Id="rId13" Type="http://schemas.openxmlformats.org/officeDocument/2006/relationships/slideLayout" Target="../slideLayouts/slideLayout861.xml"/><Relationship Id="rId14" Type="http://schemas.openxmlformats.org/officeDocument/2006/relationships/slideLayout" Target="../slideLayouts/slideLayout862.xml"/><Relationship Id="rId15" Type="http://schemas.openxmlformats.org/officeDocument/2006/relationships/slideLayout" Target="../slideLayouts/slideLayout863.xml"/><Relationship Id="rId16" Type="http://schemas.openxmlformats.org/officeDocument/2006/relationships/slideLayout" Target="../slideLayouts/slideLayout86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pic>
        <p:nvPicPr>
          <p:cNvPr id="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911E-4DBD-4C82-998A-D1B4BC16C9EF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"/>
          <p:cNvSpPr/>
          <p:nvPr/>
        </p:nvSpPr>
        <p:spPr>
          <a:xfrm>
            <a:off x="1440" y="0"/>
            <a:ext cx="9144000" cy="6854760"/>
          </a:xfrm>
          <a:prstGeom prst="rect">
            <a:avLst/>
          </a:prstGeom>
          <a:solidFill>
            <a:srgbClr val="d2243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11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3EC9-55B6-4B9A-B83F-13FA9A190235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13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4468-307B-4292-B177-602A471AC5BE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Num" idx="14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6D89-1F8F-4F49-B094-5AFDE9AA90E9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Num" idx="15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55DD-7F98-494C-944B-4EC933A1071E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16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EB4-5960-4355-AFE4-B8359EB76971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7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688" name="Rectangle 1"/>
          <p:cNvSpPr/>
          <p:nvPr/>
        </p:nvSpPr>
        <p:spPr>
          <a:xfrm>
            <a:off x="1440" y="0"/>
            <a:ext cx="9144000" cy="6854760"/>
          </a:xfrm>
          <a:prstGeom prst="rect">
            <a:avLst/>
          </a:prstGeom>
          <a:solidFill>
            <a:srgbClr val="d2243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9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17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0A96-5C01-43D9-989A-28B9E84587BD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pic>
        <p:nvPicPr>
          <p:cNvPr id="4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449A9-E910-440B-A3C4-CF0F3CDA5589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18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A1DD-850B-441E-B6DE-CCFD40928C24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sldNum" idx="19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20DE-8356-4B7F-9566-77392A09730E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sldNum" idx="20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3EE0-CECF-4F00-9D8F-596960C23EA8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889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0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931" name="Rectangle 1"/>
          <p:cNvSpPr/>
          <p:nvPr/>
        </p:nvSpPr>
        <p:spPr>
          <a:xfrm>
            <a:off x="1440" y="0"/>
            <a:ext cx="9144000" cy="6854760"/>
          </a:xfrm>
          <a:prstGeom prst="rect">
            <a:avLst/>
          </a:prstGeom>
          <a:solidFill>
            <a:srgbClr val="d2243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2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972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3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975" name="Rectangle 4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6" name="Picture 6" descr=""/>
          <p:cNvPicPr/>
          <p:nvPr/>
        </p:nvPicPr>
        <p:blipFill>
          <a:blip r:embed="rId5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8" descr=""/>
          <p:cNvPicPr/>
          <p:nvPr/>
        </p:nvPicPr>
        <p:blipFill>
          <a:blip r:embed="rId6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017" name="Rectangle 1"/>
          <p:cNvSpPr/>
          <p:nvPr/>
        </p:nvSpPr>
        <p:spPr>
          <a:xfrm>
            <a:off x="1440" y="0"/>
            <a:ext cx="9144000" cy="6854760"/>
          </a:xfrm>
          <a:prstGeom prst="rect">
            <a:avLst/>
          </a:prstGeom>
          <a:solidFill>
            <a:srgbClr val="d2243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8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23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3034-AFA4-43EA-A407-4D8AACECDC71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26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77E-7034-43EC-9BC6-DDCE1C28B024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2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2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29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E7F1-19E4-40B8-9106-5A69196F6112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pic>
        <p:nvPicPr>
          <p:cNvPr id="8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76A39-D531-4074-AE1A-2BE1CFB8FCF2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3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31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32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6373-C06A-442F-A75A-0942BF5DE8FF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35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5C2F-A601-4687-AEF0-258EF31C1695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268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9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9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310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1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4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4" name="Picture 6" descr=""/>
          <p:cNvPicPr/>
          <p:nvPr/>
        </p:nvPicPr>
        <p:blipFill>
          <a:blip r:embed="rId5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8" descr=""/>
          <p:cNvPicPr/>
          <p:nvPr/>
        </p:nvPicPr>
        <p:blipFill>
          <a:blip r:embed="rId6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7"/>
    <p:sldLayoutId id="2147484066" r:id="rId8"/>
    <p:sldLayoutId id="2147484067" r:id="rId9"/>
    <p:sldLayoutId id="2147484068" r:id="rId10"/>
    <p:sldLayoutId id="2147484069" r:id="rId11"/>
    <p:sldLayoutId id="2147484070" r:id="rId12"/>
    <p:sldLayoutId id="2147484071" r:id="rId13"/>
    <p:sldLayoutId id="2147484072" r:id="rId14"/>
    <p:sldLayoutId id="2147484073" r:id="rId15"/>
    <p:sldLayoutId id="2147484074" r:id="rId16"/>
    <p:sldLayoutId id="2147484075" r:id="rId17"/>
    <p:sldLayoutId id="2147484076" r:id="rId18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355" name="Rectangle 1"/>
          <p:cNvSpPr/>
          <p:nvPr/>
        </p:nvSpPr>
        <p:spPr>
          <a:xfrm>
            <a:off x="1440" y="0"/>
            <a:ext cx="9144000" cy="6854760"/>
          </a:xfrm>
          <a:prstGeom prst="rect">
            <a:avLst/>
          </a:prstGeom>
          <a:solidFill>
            <a:srgbClr val="d2243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6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38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4A75-BDE9-42F5-A251-B414DB7D1466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 type="sldNum" idx="41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1E9F-B9EB-416A-84FB-503079B0BCC8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4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4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44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B63C-63B0-4F83-A94E-FB44388435BA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 type="dt" idx="4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 type="ftr" idx="46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 type="sldNum" idx="47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A346-3E50-478C-B236-02733D5C10A2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 type="ftr" idx="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 type="sldNum" idx="50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25F5-FEC3-4B22-ACDA-75F10B69EF8C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pic>
        <p:nvPicPr>
          <p:cNvPr id="12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3130-93B6-4384-AF17-D2798BF0B58C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606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7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648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9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1651" name="Rectangle 4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2" name="Picture 6" descr=""/>
          <p:cNvPicPr/>
          <p:nvPr/>
        </p:nvPicPr>
        <p:blipFill>
          <a:blip r:embed="rId5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8" descr=""/>
          <p:cNvPicPr/>
          <p:nvPr/>
        </p:nvPicPr>
        <p:blipFill>
          <a:blip r:embed="rId6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7"/>
    <p:sldLayoutId id="2147484170" r:id="rId8"/>
    <p:sldLayoutId id="2147484171" r:id="rId9"/>
    <p:sldLayoutId id="2147484172" r:id="rId10"/>
    <p:sldLayoutId id="2147484173" r:id="rId11"/>
    <p:sldLayoutId id="2147484174" r:id="rId12"/>
    <p:sldLayoutId id="2147484175" r:id="rId13"/>
    <p:sldLayoutId id="2147484176" r:id="rId14"/>
    <p:sldLayoutId id="2147484177" r:id="rId15"/>
    <p:sldLayoutId id="2147484178" r:id="rId16"/>
    <p:sldLayoutId id="2147484179" r:id="rId17"/>
    <p:sldLayoutId id="2147484180" r:id="rId18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693" name="Rectangle 1"/>
          <p:cNvSpPr/>
          <p:nvPr/>
        </p:nvSpPr>
        <p:spPr>
          <a:xfrm>
            <a:off x="1440" y="0"/>
            <a:ext cx="9144000" cy="6854760"/>
          </a:xfrm>
          <a:prstGeom prst="rect">
            <a:avLst/>
          </a:prstGeom>
          <a:solidFill>
            <a:srgbClr val="d2243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4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 type="dt" idx="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 type="ftr" idx="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 type="sldNum" idx="53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D535-294A-45B6-9990-8AB67CE73D8F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 type="sldNum" idx="56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BD3A-A7AC-44A5-B94D-47F4879639A0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 type="dt" idx="5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 type="ftr" idx="5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 type="sldNum" idx="59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8FD0-743B-45B0-964E-E558497A8A5F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9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dt" idx="6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 type="ftr" idx="61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 type="sldNum" idx="62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866-5898-4DE9-8534-89D035A87B7D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1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dt" idx="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ftr" idx="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 type="sldNum" idx="65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62A3-E4FC-4A1E-B7D8-7D1D643D2669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3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944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5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1946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986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1988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1989" name="Rectangle 4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0" name="Picture 6" descr=""/>
          <p:cNvPicPr/>
          <p:nvPr/>
        </p:nvPicPr>
        <p:blipFill>
          <a:blip r:embed="rId5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8" descr=""/>
          <p:cNvPicPr/>
          <p:nvPr/>
        </p:nvPicPr>
        <p:blipFill>
          <a:blip r:embed="rId6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7"/>
    <p:sldLayoutId id="2147484274" r:id="rId8"/>
    <p:sldLayoutId id="2147484275" r:id="rId9"/>
    <p:sldLayoutId id="2147484276" r:id="rId10"/>
    <p:sldLayoutId id="2147484277" r:id="rId11"/>
    <p:sldLayoutId id="2147484278" r:id="rId12"/>
    <p:sldLayoutId id="2147484279" r:id="rId13"/>
    <p:sldLayoutId id="2147484280" r:id="rId14"/>
    <p:sldLayoutId id="2147484281" r:id="rId15"/>
    <p:sldLayoutId id="2147484282" r:id="rId16"/>
    <p:sldLayoutId id="2147484283" r:id="rId17"/>
    <p:sldLayoutId id="2147484284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pic>
        <p:nvPicPr>
          <p:cNvPr id="16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6460-31DD-4853-8E57-CCE3C66EFF12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0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031" name="Rectangle 1"/>
          <p:cNvSpPr/>
          <p:nvPr/>
        </p:nvSpPr>
        <p:spPr>
          <a:xfrm>
            <a:off x="1440" y="0"/>
            <a:ext cx="9144000" cy="6854760"/>
          </a:xfrm>
          <a:prstGeom prst="rect">
            <a:avLst/>
          </a:prstGeom>
          <a:solidFill>
            <a:srgbClr val="d2243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2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1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 type="dt" idx="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 type="ftr" idx="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PlaceHolder 5"/>
          <p:cNvSpPr>
            <a:spLocks noGrp="1"/>
          </p:cNvSpPr>
          <p:nvPr>
            <p:ph type="sldNum" idx="68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E689-405F-42D6-A100-DBA7FA850501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3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71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10BC-687C-432B-8909-44302750A394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 type="dt" idx="7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 type="ftr" idx="7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 type="sldNum" idx="74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41C0-F1E9-48F0-AD5D-F869CC645A1E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 type="dt" idx="7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 type="ftr" idx="76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 type="sldNum" idx="77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4474-9BCB-443A-B27D-001E8FAA5A7C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9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4" name="PlaceHolder 5"/>
          <p:cNvSpPr>
            <a:spLocks noGrp="1"/>
          </p:cNvSpPr>
          <p:nvPr>
            <p:ph type="sldNum" idx="80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D4B6-8481-40FC-B10B-E7D9FB9DFB4D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1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282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3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2284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5"/>
    <p:sldLayoutId id="2147484365" r:id="rId6"/>
    <p:sldLayoutId id="2147484366" r:id="rId7"/>
    <p:sldLayoutId id="2147484367" r:id="rId8"/>
    <p:sldLayoutId id="2147484368" r:id="rId9"/>
    <p:sldLayoutId id="2147484369" r:id="rId10"/>
    <p:sldLayoutId id="2147484370" r:id="rId11"/>
    <p:sldLayoutId id="2147484371" r:id="rId12"/>
    <p:sldLayoutId id="2147484372" r:id="rId13"/>
    <p:sldLayoutId id="2147484373" r:id="rId14"/>
    <p:sldLayoutId id="2147484374" r:id="rId15"/>
    <p:sldLayoutId id="2147484375" r:id="rId16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3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324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5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2326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2327" name="Rectangle 4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8" name="Picture 6" descr=""/>
          <p:cNvPicPr/>
          <p:nvPr/>
        </p:nvPicPr>
        <p:blipFill>
          <a:blip r:embed="rId5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2329" name="Picture 8" descr=""/>
          <p:cNvPicPr/>
          <p:nvPr/>
        </p:nvPicPr>
        <p:blipFill>
          <a:blip r:embed="rId6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7"/>
    <p:sldLayoutId id="2147484378" r:id="rId8"/>
    <p:sldLayoutId id="2147484379" r:id="rId9"/>
    <p:sldLayoutId id="2147484380" r:id="rId10"/>
    <p:sldLayoutId id="2147484381" r:id="rId11"/>
    <p:sldLayoutId id="2147484382" r:id="rId12"/>
    <p:sldLayoutId id="2147484383" r:id="rId13"/>
    <p:sldLayoutId id="2147484384" r:id="rId14"/>
    <p:sldLayoutId id="2147484385" r:id="rId15"/>
    <p:sldLayoutId id="2147484386" r:id="rId16"/>
    <p:sldLayoutId id="2147484387" r:id="rId17"/>
    <p:sldLayoutId id="2147484388" r:id="rId18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8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369" name="Rectangle 1"/>
          <p:cNvSpPr/>
          <p:nvPr/>
        </p:nvSpPr>
        <p:spPr>
          <a:xfrm>
            <a:off x="1440" y="0"/>
            <a:ext cx="9144000" cy="6854760"/>
          </a:xfrm>
          <a:prstGeom prst="rect">
            <a:avLst/>
          </a:prstGeom>
          <a:solidFill>
            <a:srgbClr val="d2243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0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9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83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F793-0991-496C-AC23-B8C8A5A07DD2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pic>
        <p:nvPicPr>
          <p:cNvPr id="20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E28A-1B2C-41F6-AA7C-6C4768CDF31F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1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 type="sldNum" idx="86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D624-234B-48A7-85E0-F181E8391648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3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 type="dt" idx="8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 type="ftr" idx="8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 type="sldNum" idx="89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720B-8724-4F41-BD5F-48E118A2F8AA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 type="dt" idx="9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 type="ftr" idx="91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 type="sldNum" idx="92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E17-D392-4C4A-AFFE-4A3C20A99689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 type="sldNum" idx="95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FC83-C7C0-4D0C-BB5D-44F241BEF226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9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620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1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2622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5"/>
    <p:sldLayoutId id="2147484469" r:id="rId6"/>
    <p:sldLayoutId id="2147484470" r:id="rId7"/>
    <p:sldLayoutId id="2147484471" r:id="rId8"/>
    <p:sldLayoutId id="2147484472" r:id="rId9"/>
    <p:sldLayoutId id="2147484473" r:id="rId10"/>
    <p:sldLayoutId id="2147484474" r:id="rId11"/>
    <p:sldLayoutId id="2147484475" r:id="rId12"/>
    <p:sldLayoutId id="2147484476" r:id="rId13"/>
    <p:sldLayoutId id="2147484477" r:id="rId14"/>
    <p:sldLayoutId id="2147484478" r:id="rId15"/>
    <p:sldLayoutId id="2147484479" r:id="rId16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1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662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3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2664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2665" name="Rectangle 4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6" name="Picture 6" descr=""/>
          <p:cNvPicPr/>
          <p:nvPr/>
        </p:nvPicPr>
        <p:blipFill>
          <a:blip r:embed="rId5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2667" name="Picture 8" descr=""/>
          <p:cNvPicPr/>
          <p:nvPr/>
        </p:nvPicPr>
        <p:blipFill>
          <a:blip r:embed="rId6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7"/>
    <p:sldLayoutId id="2147484482" r:id="rId8"/>
    <p:sldLayoutId id="2147484483" r:id="rId9"/>
    <p:sldLayoutId id="2147484484" r:id="rId10"/>
    <p:sldLayoutId id="2147484485" r:id="rId11"/>
    <p:sldLayoutId id="2147484486" r:id="rId12"/>
    <p:sldLayoutId id="2147484487" r:id="rId13"/>
    <p:sldLayoutId id="2147484488" r:id="rId14"/>
    <p:sldLayoutId id="2147484489" r:id="rId15"/>
    <p:sldLayoutId id="2147484490" r:id="rId16"/>
    <p:sldLayoutId id="2147484491" r:id="rId17"/>
    <p:sldLayoutId id="2147484492" r:id="rId18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6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707" name="Rectangle 1"/>
          <p:cNvSpPr/>
          <p:nvPr/>
        </p:nvSpPr>
        <p:spPr>
          <a:xfrm>
            <a:off x="1440" y="0"/>
            <a:ext cx="9144000" cy="6854760"/>
          </a:xfrm>
          <a:prstGeom prst="rect">
            <a:avLst/>
          </a:prstGeom>
          <a:solidFill>
            <a:srgbClr val="d22432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8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 type="sldNum" idx="98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F95A-B454-4AE0-BC2E-48B120B69BAE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9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 type="sldNum" idx="101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655-C6D8-4EFA-BF8D-79356AE56B8B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1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34" name="PlaceHolder 3"/>
          <p:cNvSpPr>
            <a:spLocks noGrp="1"/>
          </p:cNvSpPr>
          <p:nvPr>
            <p:ph type="dt" idx="10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PlaceHolder 4"/>
          <p:cNvSpPr>
            <a:spLocks noGrp="1"/>
          </p:cNvSpPr>
          <p:nvPr>
            <p:ph type="ftr" idx="10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PlaceHolder 5"/>
          <p:cNvSpPr>
            <a:spLocks noGrp="1"/>
          </p:cNvSpPr>
          <p:nvPr>
            <p:ph type="sldNum" idx="104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59E3-3E70-4C50-A638-548E58DB049D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pic>
        <p:nvPicPr>
          <p:cNvPr id="24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9C9E-BB7F-4BDC-A6FE-42A667213E3C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3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dt" idx="10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 type="ftr" idx="106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 type="sldNum" idx="107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7D2-6001-4A83-A6BC-872796DCA994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5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sp>
        <p:nvSpPr>
          <p:cNvPr id="2918" name="PlaceHolder 3"/>
          <p:cNvSpPr>
            <a:spLocks noGrp="1"/>
          </p:cNvSpPr>
          <p:nvPr>
            <p:ph type="dt" idx="1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4"/>
          <p:cNvSpPr>
            <a:spLocks noGrp="1"/>
          </p:cNvSpPr>
          <p:nvPr>
            <p:ph type="ftr" idx="1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PlaceHolder 5"/>
          <p:cNvSpPr>
            <a:spLocks noGrp="1"/>
          </p:cNvSpPr>
          <p:nvPr>
            <p:ph type="sldNum" idx="110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3EAB-3EF3-4EDC-A50E-D0D7668C66CD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1"/>
          <p:cNvSpPr/>
          <p:nvPr/>
        </p:nvSpPr>
        <p:spPr>
          <a:xfrm>
            <a:off x="1440" y="1625760"/>
            <a:ext cx="9144000" cy="5229000"/>
          </a:xfrm>
          <a:prstGeom prst="rect">
            <a:avLst/>
          </a:prstGeom>
          <a:solidFill>
            <a:srgbClr val="d224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9" name="Picture 6" descr=""/>
          <p:cNvPicPr/>
          <p:nvPr/>
        </p:nvPicPr>
        <p:blipFill>
          <a:blip r:embed="rId3"/>
          <a:stretch/>
        </p:blipFill>
        <p:spPr>
          <a:xfrm rot="5400000">
            <a:off x="2152800" y="1916640"/>
            <a:ext cx="2811600" cy="7334280"/>
          </a:xfrm>
          <a:prstGeom prst="rect">
            <a:avLst/>
          </a:prstGeom>
          <a:ln w="0">
            <a:noFill/>
          </a:ln>
        </p:spPr>
      </p:pic>
      <p:pic>
        <p:nvPicPr>
          <p:cNvPr id="2960" name="Picture 8" descr=""/>
          <p:cNvPicPr/>
          <p:nvPr/>
        </p:nvPicPr>
        <p:blipFill>
          <a:blip r:embed="rId4"/>
          <a:stretch/>
        </p:blipFill>
        <p:spPr>
          <a:xfrm>
            <a:off x="250920" y="128520"/>
            <a:ext cx="2808360" cy="1298520"/>
          </a:xfrm>
          <a:prstGeom prst="rect">
            <a:avLst/>
          </a:prstGeom>
          <a:ln w="0">
            <a:noFill/>
          </a:ln>
        </p:spPr>
      </p:pic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5"/>
    <p:sldLayoutId id="2147484573" r:id="rId6"/>
    <p:sldLayoutId id="2147484574" r:id="rId7"/>
    <p:sldLayoutId id="2147484575" r:id="rId8"/>
    <p:sldLayoutId id="2147484576" r:id="rId9"/>
    <p:sldLayoutId id="2147484577" r:id="rId10"/>
    <p:sldLayoutId id="2147484578" r:id="rId11"/>
    <p:sldLayoutId id="2147484579" r:id="rId12"/>
    <p:sldLayoutId id="2147484580" r:id="rId13"/>
    <p:sldLayoutId id="2147484581" r:id="rId14"/>
    <p:sldLayoutId id="2147484582" r:id="rId15"/>
    <p:sldLayoutId id="2147484583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pic>
        <p:nvPicPr>
          <p:cNvPr id="28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D15D-BD51-47C8-BC64-3C1512EB4DEF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lick to edit the title text forma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  <p:pic>
        <p:nvPicPr>
          <p:cNvPr id="322" name="Picture 7" descr="UNB wordmark_K.eps"/>
          <p:cNvPicPr/>
          <p:nvPr/>
        </p:nvPicPr>
        <p:blipFill>
          <a:blip r:embed="rId2"/>
          <a:stretch/>
        </p:blipFill>
        <p:spPr>
          <a:xfrm>
            <a:off x="755640" y="6330960"/>
            <a:ext cx="3228840" cy="4334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457200" y="6356520"/>
            <a:ext cx="55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7347-B1BE-41FB-927E-0C61AD84A380}" type="slidenum">
              <a:rPr b="0" lang="en-US" sz="1200" spc="-1" strike="noStrike">
                <a:solidFill>
                  <a:srgbClr val="a6a6a6"/>
                </a:solidFill>
                <a:latin typeface="Avenir Next Demi Bold"/>
                <a:ea typeface="Avenir Next Demi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76320" y="1676160"/>
            <a:ext cx="8904240" cy="15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venir Next Demi Bold"/>
              </a:rPr>
              <a:t>Can Candidate Diversity Counter Democratic Disengagement in Canadian Politics?</a:t>
            </a:r>
            <a:br>
              <a:rPr sz="32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venir Next Demi Bold"/>
              </a:rPr>
              <a:t>paper presented at the C-Dem Workshop </a:t>
            </a:r>
            <a:endParaRPr b="0" lang="en-US" sz="1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304560" y="3504960"/>
            <a:ext cx="8675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venir Next Regular"/>
              </a:rPr>
              <a:t>Joanna Everitt (UNBSJ), Karen Bird (McMaster), Angelia Wagner (U of A), and Mireille Lalancette (UQTR)</a:t>
            </a:r>
            <a:endParaRPr b="1" lang="en-US" sz="20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0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086600" cy="5154840"/>
          </a:xfrm>
          <a:prstGeom prst="rect">
            <a:avLst/>
          </a:prstGeom>
          <a:ln w="0">
            <a:noFill/>
          </a:ln>
        </p:spPr>
      </p:pic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42a33"/>
                </a:solidFill>
                <a:latin typeface="Avenir Next Demi Bold"/>
              </a:rPr>
              <a:t>H1 – LGBTQ+ voters will be more politically engaged than other marginalized groups.</a:t>
            </a:r>
            <a:endParaRPr b="0" lang="en-US" sz="32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22" name="Minus 5"/>
          <p:cNvSpPr/>
          <p:nvPr/>
        </p:nvSpPr>
        <p:spPr>
          <a:xfrm>
            <a:off x="1295280" y="3048120"/>
            <a:ext cx="30492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40401" y="145694"/>
                </a:moveTo>
                <a:lnTo>
                  <a:pt x="264399" y="145694"/>
                </a:lnTo>
                <a:lnTo>
                  <a:pt x="264399" y="235306"/>
                </a:lnTo>
                <a:lnTo>
                  <a:pt x="40401" y="235306"/>
                </a:lnTo>
                <a:lnTo>
                  <a:pt x="40401" y="1456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3" name="Minus 7"/>
          <p:cNvSpPr/>
          <p:nvPr/>
        </p:nvSpPr>
        <p:spPr>
          <a:xfrm>
            <a:off x="1828800" y="3048120"/>
            <a:ext cx="304920" cy="380880"/>
          </a:xfrm>
          <a:custGeom>
            <a:avLst/>
            <a:gdLst/>
            <a:ahLst/>
            <a:rect l="l" t="t" r="r" b="b"/>
            <a:pathLst>
              <a:path w="304800" h="381000">
                <a:moveTo>
                  <a:pt x="40401" y="145694"/>
                </a:moveTo>
                <a:lnTo>
                  <a:pt x="264399" y="145694"/>
                </a:lnTo>
                <a:lnTo>
                  <a:pt x="264399" y="235306"/>
                </a:lnTo>
                <a:lnTo>
                  <a:pt x="40401" y="235306"/>
                </a:lnTo>
                <a:lnTo>
                  <a:pt x="40401" y="145694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4" name="Picture 8" descr=""/>
          <p:cNvPicPr/>
          <p:nvPr/>
        </p:nvPicPr>
        <p:blipFill>
          <a:blip r:embed="rId2"/>
          <a:stretch/>
        </p:blipFill>
        <p:spPr>
          <a:xfrm>
            <a:off x="4952880" y="3809880"/>
            <a:ext cx="317520" cy="1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5" name="Picture 3" descr=""/>
          <p:cNvPicPr/>
          <p:nvPr/>
        </p:nvPicPr>
        <p:blipFill>
          <a:blip r:embed="rId1"/>
          <a:stretch/>
        </p:blipFill>
        <p:spPr>
          <a:xfrm>
            <a:off x="762120" y="1498680"/>
            <a:ext cx="7315200" cy="532116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42a33"/>
                </a:solidFill>
                <a:latin typeface="Avenir Next Demi Bold"/>
              </a:rPr>
              <a:t>H1 – LGBTQ+ voters will be more politically engaged than other marginalized groups.</a:t>
            </a:r>
            <a:endParaRPr b="0" lang="en-US" sz="32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27" name="Equal 9"/>
          <p:cNvSpPr/>
          <p:nvPr/>
        </p:nvSpPr>
        <p:spPr>
          <a:xfrm>
            <a:off x="2362320" y="2133720"/>
            <a:ext cx="30456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40401" y="62789"/>
                </a:moveTo>
                <a:lnTo>
                  <a:pt x="264399" y="62789"/>
                </a:lnTo>
                <a:lnTo>
                  <a:pt x="264399" y="134478"/>
                </a:lnTo>
                <a:lnTo>
                  <a:pt x="40401" y="134478"/>
                </a:lnTo>
                <a:lnTo>
                  <a:pt x="40401" y="62789"/>
                </a:lnTo>
                <a:close/>
                <a:moveTo>
                  <a:pt x="40401" y="170322"/>
                </a:moveTo>
                <a:lnTo>
                  <a:pt x="264399" y="170322"/>
                </a:lnTo>
                <a:lnTo>
                  <a:pt x="264399" y="242011"/>
                </a:lnTo>
                <a:lnTo>
                  <a:pt x="40401" y="242011"/>
                </a:lnTo>
                <a:lnTo>
                  <a:pt x="40401" y="170322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8" name="Picture 10" descr=""/>
          <p:cNvPicPr/>
          <p:nvPr/>
        </p:nvPicPr>
        <p:blipFill>
          <a:blip r:embed="rId2"/>
          <a:stretch/>
        </p:blipFill>
        <p:spPr>
          <a:xfrm>
            <a:off x="2895480" y="3289320"/>
            <a:ext cx="317520" cy="279360"/>
          </a:xfrm>
          <a:prstGeom prst="rect">
            <a:avLst/>
          </a:prstGeom>
          <a:ln w="0">
            <a:noFill/>
          </a:ln>
        </p:spPr>
      </p:pic>
      <p:pic>
        <p:nvPicPr>
          <p:cNvPr id="3029" name="Picture 11" descr=""/>
          <p:cNvPicPr/>
          <p:nvPr/>
        </p:nvPicPr>
        <p:blipFill>
          <a:blip r:embed="rId3"/>
          <a:stretch/>
        </p:blipFill>
        <p:spPr>
          <a:xfrm>
            <a:off x="7543800" y="2975040"/>
            <a:ext cx="317520" cy="280800"/>
          </a:xfrm>
          <a:prstGeom prst="rect">
            <a:avLst/>
          </a:prstGeom>
          <a:ln w="0">
            <a:noFill/>
          </a:ln>
        </p:spPr>
      </p:pic>
      <p:pic>
        <p:nvPicPr>
          <p:cNvPr id="3030" name="Picture 12" descr=""/>
          <p:cNvPicPr/>
          <p:nvPr/>
        </p:nvPicPr>
        <p:blipFill>
          <a:blip r:embed="rId4"/>
          <a:stretch/>
        </p:blipFill>
        <p:spPr>
          <a:xfrm>
            <a:off x="3962520" y="3728880"/>
            <a:ext cx="317520" cy="281160"/>
          </a:xfrm>
          <a:prstGeom prst="rect">
            <a:avLst/>
          </a:prstGeom>
          <a:ln w="0">
            <a:noFill/>
          </a:ln>
        </p:spPr>
      </p:pic>
      <p:pic>
        <p:nvPicPr>
          <p:cNvPr id="3031" name="Picture 13" descr=""/>
          <p:cNvPicPr/>
          <p:nvPr/>
        </p:nvPicPr>
        <p:blipFill>
          <a:blip r:embed="rId5"/>
          <a:stretch/>
        </p:blipFill>
        <p:spPr>
          <a:xfrm>
            <a:off x="3276720" y="1523880"/>
            <a:ext cx="317520" cy="281160"/>
          </a:xfrm>
          <a:prstGeom prst="rect">
            <a:avLst/>
          </a:prstGeom>
          <a:ln w="0">
            <a:noFill/>
          </a:ln>
        </p:spPr>
      </p:pic>
      <p:pic>
        <p:nvPicPr>
          <p:cNvPr id="3032" name="Picture 14" descr=""/>
          <p:cNvPicPr/>
          <p:nvPr/>
        </p:nvPicPr>
        <p:blipFill>
          <a:blip r:embed="rId6"/>
          <a:stretch/>
        </p:blipFill>
        <p:spPr>
          <a:xfrm>
            <a:off x="5943600" y="2590920"/>
            <a:ext cx="317520" cy="2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3" name="Picture 3" descr=""/>
          <p:cNvPicPr/>
          <p:nvPr/>
        </p:nvPicPr>
        <p:blipFill>
          <a:blip r:embed="rId1"/>
          <a:stretch/>
        </p:blipFill>
        <p:spPr>
          <a:xfrm>
            <a:off x="920880" y="1523880"/>
            <a:ext cx="7162560" cy="5208840"/>
          </a:xfrm>
          <a:prstGeom prst="rect">
            <a:avLst/>
          </a:prstGeom>
          <a:ln w="0">
            <a:noFill/>
          </a:ln>
        </p:spPr>
      </p:pic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42a33"/>
                </a:solidFill>
                <a:latin typeface="Avenir Next Demi Bold"/>
              </a:rPr>
              <a:t>H1 – LGBTQ+ voters will be more politically engaged than other marginalized groups.</a:t>
            </a:r>
            <a:endParaRPr b="0" lang="en-US" sz="32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35" name="Plus 15"/>
          <p:cNvSpPr/>
          <p:nvPr/>
        </p:nvSpPr>
        <p:spPr>
          <a:xfrm>
            <a:off x="4502160" y="3575160"/>
            <a:ext cx="228600" cy="317520"/>
          </a:xfrm>
          <a:custGeom>
            <a:avLst/>
            <a:gdLst/>
            <a:ahLst/>
            <a:rect l="l" t="t" r="r" b="b"/>
            <a:pathLst>
              <a:path w="228600" h="317500">
                <a:moveTo>
                  <a:pt x="30301" y="131867"/>
                </a:moveTo>
                <a:lnTo>
                  <a:pt x="87417" y="131867"/>
                </a:lnTo>
                <a:lnTo>
                  <a:pt x="87417" y="42085"/>
                </a:lnTo>
                <a:lnTo>
                  <a:pt x="141183" y="42085"/>
                </a:lnTo>
                <a:lnTo>
                  <a:pt x="141183" y="131867"/>
                </a:lnTo>
                <a:lnTo>
                  <a:pt x="198299" y="131867"/>
                </a:lnTo>
                <a:lnTo>
                  <a:pt x="198299" y="185633"/>
                </a:lnTo>
                <a:lnTo>
                  <a:pt x="141183" y="185633"/>
                </a:lnTo>
                <a:lnTo>
                  <a:pt x="141183" y="275415"/>
                </a:lnTo>
                <a:lnTo>
                  <a:pt x="87417" y="275415"/>
                </a:lnTo>
                <a:lnTo>
                  <a:pt x="87417" y="185633"/>
                </a:lnTo>
                <a:lnTo>
                  <a:pt x="30301" y="185633"/>
                </a:lnTo>
                <a:lnTo>
                  <a:pt x="30301" y="131867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36" name="Picture 16" descr=""/>
          <p:cNvPicPr/>
          <p:nvPr/>
        </p:nvPicPr>
        <p:blipFill>
          <a:blip r:embed="rId2"/>
          <a:stretch/>
        </p:blipFill>
        <p:spPr>
          <a:xfrm>
            <a:off x="5464080" y="3639960"/>
            <a:ext cx="262080" cy="328680"/>
          </a:xfrm>
          <a:prstGeom prst="rect">
            <a:avLst/>
          </a:prstGeom>
          <a:ln w="0">
            <a:noFill/>
          </a:ln>
        </p:spPr>
      </p:pic>
      <p:pic>
        <p:nvPicPr>
          <p:cNvPr id="3037" name="Picture 17" descr=""/>
          <p:cNvPicPr/>
          <p:nvPr/>
        </p:nvPicPr>
        <p:blipFill>
          <a:blip r:embed="rId3"/>
          <a:stretch/>
        </p:blipFill>
        <p:spPr>
          <a:xfrm>
            <a:off x="6459480" y="3309840"/>
            <a:ext cx="262080" cy="330120"/>
          </a:xfrm>
          <a:prstGeom prst="rect">
            <a:avLst/>
          </a:prstGeom>
          <a:ln w="0">
            <a:noFill/>
          </a:ln>
        </p:spPr>
      </p:pic>
      <p:pic>
        <p:nvPicPr>
          <p:cNvPr id="3038" name="Picture 18" descr=""/>
          <p:cNvPicPr/>
          <p:nvPr/>
        </p:nvPicPr>
        <p:blipFill>
          <a:blip r:embed="rId4"/>
          <a:stretch/>
        </p:blipFill>
        <p:spPr>
          <a:xfrm>
            <a:off x="7008840" y="3400560"/>
            <a:ext cx="26208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9" name="Picture 16" descr=""/>
          <p:cNvPicPr/>
          <p:nvPr/>
        </p:nvPicPr>
        <p:blipFill>
          <a:blip r:embed="rId1"/>
          <a:stretch/>
        </p:blipFill>
        <p:spPr>
          <a:xfrm>
            <a:off x="685800" y="1417680"/>
            <a:ext cx="7467480" cy="5362560"/>
          </a:xfrm>
          <a:prstGeom prst="rect">
            <a:avLst/>
          </a:prstGeom>
          <a:ln w="0">
            <a:noFill/>
          </a:ln>
        </p:spPr>
      </p:pic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42a33"/>
                </a:solidFill>
                <a:latin typeface="Avenir Next Demi Bold"/>
              </a:rPr>
              <a:t>H2 – LGBTQ+ candidates will linked to higher political engagement in the campaign</a:t>
            </a:r>
            <a:endParaRPr b="0" lang="en-US" sz="32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41" name="Down Arrow 5"/>
          <p:cNvSpPr/>
          <p:nvPr/>
        </p:nvSpPr>
        <p:spPr>
          <a:xfrm>
            <a:off x="1514520" y="219564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2" name="Picture 6" descr=""/>
          <p:cNvPicPr/>
          <p:nvPr/>
        </p:nvPicPr>
        <p:blipFill>
          <a:blip r:embed="rId2"/>
          <a:stretch/>
        </p:blipFill>
        <p:spPr>
          <a:xfrm>
            <a:off x="1908000" y="2195640"/>
            <a:ext cx="336600" cy="555480"/>
          </a:xfrm>
          <a:prstGeom prst="rect">
            <a:avLst/>
          </a:prstGeom>
          <a:ln w="0">
            <a:noFill/>
          </a:ln>
        </p:spPr>
      </p:pic>
      <p:pic>
        <p:nvPicPr>
          <p:cNvPr id="3043" name="Picture 7" descr=""/>
          <p:cNvPicPr/>
          <p:nvPr/>
        </p:nvPicPr>
        <p:blipFill>
          <a:blip r:embed="rId3"/>
          <a:stretch/>
        </p:blipFill>
        <p:spPr>
          <a:xfrm>
            <a:off x="3429000" y="1417680"/>
            <a:ext cx="334800" cy="554040"/>
          </a:xfrm>
          <a:prstGeom prst="rect">
            <a:avLst/>
          </a:prstGeom>
          <a:ln w="0">
            <a:noFill/>
          </a:ln>
        </p:spPr>
      </p:pic>
      <p:pic>
        <p:nvPicPr>
          <p:cNvPr id="3044" name="Picture 8" descr=""/>
          <p:cNvPicPr/>
          <p:nvPr/>
        </p:nvPicPr>
        <p:blipFill>
          <a:blip r:embed="rId4"/>
          <a:stretch/>
        </p:blipFill>
        <p:spPr>
          <a:xfrm>
            <a:off x="5045040" y="2185920"/>
            <a:ext cx="335160" cy="555840"/>
          </a:xfrm>
          <a:prstGeom prst="rect">
            <a:avLst/>
          </a:prstGeom>
          <a:ln w="0">
            <a:noFill/>
          </a:ln>
        </p:spPr>
      </p:pic>
      <p:pic>
        <p:nvPicPr>
          <p:cNvPr id="3045" name="Picture 9" descr=""/>
          <p:cNvPicPr/>
          <p:nvPr/>
        </p:nvPicPr>
        <p:blipFill>
          <a:blip r:embed="rId5"/>
          <a:stretch/>
        </p:blipFill>
        <p:spPr>
          <a:xfrm>
            <a:off x="5562720" y="2195640"/>
            <a:ext cx="334800" cy="555480"/>
          </a:xfrm>
          <a:prstGeom prst="rect">
            <a:avLst/>
          </a:prstGeom>
          <a:ln w="0">
            <a:noFill/>
          </a:ln>
        </p:spPr>
      </p:pic>
      <p:pic>
        <p:nvPicPr>
          <p:cNvPr id="3046" name="Picture 10" descr=""/>
          <p:cNvPicPr/>
          <p:nvPr/>
        </p:nvPicPr>
        <p:blipFill>
          <a:blip r:embed="rId6"/>
          <a:stretch/>
        </p:blipFill>
        <p:spPr>
          <a:xfrm>
            <a:off x="5989680" y="2195640"/>
            <a:ext cx="334800" cy="555480"/>
          </a:xfrm>
          <a:prstGeom prst="rect">
            <a:avLst/>
          </a:prstGeom>
          <a:ln w="0">
            <a:noFill/>
          </a:ln>
        </p:spPr>
      </p:pic>
      <p:pic>
        <p:nvPicPr>
          <p:cNvPr id="3047" name="Picture 11" descr=""/>
          <p:cNvPicPr/>
          <p:nvPr/>
        </p:nvPicPr>
        <p:blipFill>
          <a:blip r:embed="rId7"/>
          <a:stretch/>
        </p:blipFill>
        <p:spPr>
          <a:xfrm>
            <a:off x="6934320" y="2195640"/>
            <a:ext cx="334800" cy="555480"/>
          </a:xfrm>
          <a:prstGeom prst="rect">
            <a:avLst/>
          </a:prstGeom>
          <a:ln w="0">
            <a:noFill/>
          </a:ln>
        </p:spPr>
      </p:pic>
      <p:pic>
        <p:nvPicPr>
          <p:cNvPr id="3048" name="Picture 12" descr=""/>
          <p:cNvPicPr/>
          <p:nvPr/>
        </p:nvPicPr>
        <p:blipFill>
          <a:blip r:embed="rId8"/>
          <a:stretch/>
        </p:blipFill>
        <p:spPr>
          <a:xfrm>
            <a:off x="7494480" y="2209680"/>
            <a:ext cx="3351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9" name="Picture 3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315200" cy="51404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42a33"/>
                </a:solidFill>
                <a:latin typeface="Avenir Next Demi Bold"/>
              </a:rPr>
              <a:t>H3 – LGBTQ+ voters will be more efficacious and satisfied with Canadian democracy </a:t>
            </a:r>
            <a:endParaRPr b="0" lang="en-US" sz="32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51" name="Down Arrow 5"/>
          <p:cNvSpPr/>
          <p:nvPr/>
        </p:nvSpPr>
        <p:spPr>
          <a:xfrm>
            <a:off x="3124080" y="28954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2" name="Picture 6" descr=""/>
          <p:cNvPicPr/>
          <p:nvPr/>
        </p:nvPicPr>
        <p:blipFill>
          <a:blip r:embed="rId2"/>
          <a:stretch/>
        </p:blipFill>
        <p:spPr>
          <a:xfrm>
            <a:off x="2552760" y="2208240"/>
            <a:ext cx="3348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3" name="Picture 3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239240" cy="4867560"/>
          </a:xfrm>
          <a:prstGeom prst="rect">
            <a:avLst/>
          </a:prstGeom>
          <a:ln w="0">
            <a:noFill/>
          </a:ln>
        </p:spPr>
      </p:pic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42a33"/>
                </a:solidFill>
                <a:latin typeface="Avenir Next Demi Bold"/>
              </a:rPr>
              <a:t>H4 – LGBTQ+ candidates will have little impact on non-campaign political engagement </a:t>
            </a:r>
            <a:endParaRPr b="0" lang="en-US" sz="3200" spc="-1" strike="noStrike">
              <a:solidFill>
                <a:srgbClr val="d42a33"/>
              </a:solidFill>
              <a:latin typeface="Avenir Next Demi Bold"/>
            </a:endParaRPr>
          </a:p>
        </p:txBody>
      </p:sp>
      <p:pic>
        <p:nvPicPr>
          <p:cNvPr id="3055" name="Picture 11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3351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Takeaways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41444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Descriptive representation does relate to higher political engagement for marginalized groups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LGBTQ+ voter engagement is higher when there is a LGBTQ+ candidate in their riding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47988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More interest, attention, political discussion and turnout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lvl="1" marL="47988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But not necessarily more participation in the campaign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LGBTQ+ candidates do not affect efficacy or satisfaction with democracy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479880" indent="-205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All but 8 of the 69 candidates lost their election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Impact of candidate/voter affinity is limited to the election campaign and not to other forms of general participation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onclusions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43488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The study of candidate/voter affinities among LGBTQ+ individuals provides some support for the value of candidate diversity on democratic engagemen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74412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Affinity arguments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anadian LGBTQ+ voters, not necessarily more engaged than other voters as they are elsewhere in the world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74412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Need to mobilize to protect their rights not as necessary in Canada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lvl="1" marL="74412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Linked fate argument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Need to look at other systemically marginalized groups (Blacks, racialized or Indigenous individuals) to compare how these affinities work for them.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/>
          </p:nvPr>
        </p:nvSpPr>
        <p:spPr>
          <a:xfrm>
            <a:off x="441360" y="957240"/>
            <a:ext cx="554832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898"/>
              </a:lnSpc>
              <a:spcBef>
                <a:spcPts val="11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enir Next Demi Bold"/>
                <a:ea typeface="Avenir Next Demi Bold"/>
              </a:rPr>
              <a:t>More information:</a:t>
            </a:r>
            <a:endParaRPr b="1" lang="en-US" sz="4400" spc="-1" strike="noStrike">
              <a:solidFill>
                <a:srgbClr val="000000"/>
              </a:solidFill>
              <a:latin typeface="Avenir Next Regular"/>
            </a:endParaRPr>
          </a:p>
          <a:p>
            <a:pPr indent="0">
              <a:lnSpc>
                <a:spcPts val="3898"/>
              </a:lnSpc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venir Next Demi Bold"/>
                <a:ea typeface="Avenir Next Demi Bold"/>
              </a:rPr>
              <a:t>Joanna Everitt</a:t>
            </a:r>
            <a:endParaRPr b="1" lang="en-US" sz="3800" spc="-1" strike="noStrike">
              <a:solidFill>
                <a:srgbClr val="000000"/>
              </a:solidFill>
              <a:latin typeface="Avenir Next Regular"/>
            </a:endParaRPr>
          </a:p>
          <a:p>
            <a:pPr indent="0">
              <a:lnSpc>
                <a:spcPts val="3898"/>
              </a:lnSpc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venir Next Demi Bold"/>
                <a:ea typeface="Avenir Next Demi Bold"/>
              </a:rPr>
              <a:t>jeveritt@unb.ca</a:t>
            </a:r>
            <a:endParaRPr b="1" lang="en-US" sz="3800" spc="-1" strike="noStrike">
              <a:solidFill>
                <a:srgbClr val="000000"/>
              </a:solidFill>
              <a:latin typeface="Avenir Next Regular"/>
            </a:endParaRPr>
          </a:p>
          <a:p>
            <a:pPr indent="0">
              <a:lnSpc>
                <a:spcPts val="3898"/>
              </a:lnSpc>
              <a:spcBef>
                <a:spcPts val="9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8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andidate/Voter Affinity Project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5 year SSHRC Insight Grant (2021-2026)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Focus on diversity candidates – women, LGBTQ+, racialized (Black, S. Asian, Chinese) and Indigenous individuals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Exploring democratic engagement (interest, attention, efficacy and participation) among voters who have identity candidates in their riding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enir Next Regular"/>
              </a:rPr>
              <a:t>NOT voting affinities</a:t>
            </a:r>
            <a:endParaRPr b="0" lang="en-US" sz="16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08440" indent="0">
              <a:spcBef>
                <a:spcPts val="4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Regular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Project will involve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Oversampling of key ridings in CES 2021 to have enough respondents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Gathered candidate tweets, Facebook and Instagram posts 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Interviewing select candidates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lvl="1" marL="77616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Analysis of media coverage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urrent paper 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venir Next Regular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 paper to be produced by this research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Examines candidate/voter affinities among LGBTQ+ candidates and voters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Recent increases in the candidacies of LGBTQ+ individuals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enir Next Regular"/>
              </a:rPr>
              <a:t>2021 69 candidates in 65 ridings</a:t>
            </a:r>
            <a:endParaRPr b="0" lang="en-US" sz="16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79200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venir Next"/>
              </a:rPr>
              <a:t>Recent attention to political engagement of LGBTQ+ voters</a:t>
            </a:r>
            <a:endParaRPr b="0" lang="en-US" sz="1800" spc="-1" strike="noStrike">
              <a:solidFill>
                <a:srgbClr val="000000"/>
              </a:solidFill>
              <a:latin typeface="Avenir Next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venir Next Regular"/>
              </a:rPr>
              <a:t>However, not much research in Canada (Perrella et al 2019 is the exception)</a:t>
            </a:r>
            <a:endParaRPr b="0" lang="en-US" sz="1600" spc="-1" strike="noStrike">
              <a:solidFill>
                <a:srgbClr val="000000"/>
              </a:solidFill>
              <a:latin typeface="Avenir Next Regular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venir Next Regular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Expectation – LGBTQ+ voters who are in a riding in which a LGBTQ+ candidate is running are more likely to be democratically engaged in the campaign and politics more generally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Theory - Affinity arguments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Draws on theories of in-group bias 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Higher descriptive representation -&gt; higher levels of trust, efficacy, political interest, group pride and participation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Candidates from historically underrepresented social groups -&gt; voters becoming more engaged with the campaign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Absence of descriptive representatives -&gt; anxiety and questions about the appropriateness of their involvement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enir Next"/>
              </a:rPr>
              <a:t>Lower levels of interest, knowledge and self-efficacy</a:t>
            </a:r>
            <a:endParaRPr b="0" lang="en-US" sz="2000" spc="-1" strike="noStrike">
              <a:solidFill>
                <a:srgbClr val="000000"/>
              </a:solidFill>
              <a:latin typeface="Avenir Next"/>
            </a:endParaRPr>
          </a:p>
        </p:txBody>
      </p:sp>
      <p:pic>
        <p:nvPicPr>
          <p:cNvPr id="3007" name="Picture 4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8860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Theory - Linked fate arguments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feeling of closeness to others who identify with the group label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notion that one’s life chances “are inextricably tied to the group as a whole” 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impact is strongest when a group has been historically oppressed or marginalized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LGBTQ+ participation typically higher than average voters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5439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enir Next"/>
              </a:rPr>
              <a:t>Over participation is a way to protect hard won rights and policies from being reduced or erased</a:t>
            </a:r>
            <a:endParaRPr b="0" lang="en-US" sz="2000" spc="-1" strike="noStrike">
              <a:solidFill>
                <a:srgbClr val="000000"/>
              </a:solidFill>
              <a:latin typeface="Avenir Next"/>
            </a:endParaRPr>
          </a:p>
        </p:txBody>
      </p:sp>
      <p:pic>
        <p:nvPicPr>
          <p:cNvPr id="3010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Focus on Candidates vs Elites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63680" y="13186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Average local candidate easier for voter to identify with than exceptional elites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enir Next"/>
              </a:rPr>
              <a:t>More approachable</a:t>
            </a:r>
            <a:endParaRPr b="0" lang="en-US" sz="2000" spc="-1" strike="noStrike">
              <a:solidFill>
                <a:srgbClr val="000000"/>
              </a:solidFill>
              <a:latin typeface="Avenir Next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enir Next"/>
              </a:rPr>
              <a:t>Less intimidating</a:t>
            </a:r>
            <a:endParaRPr b="0" lang="en-US" sz="2000" spc="-1" strike="noStrike">
              <a:solidFill>
                <a:srgbClr val="000000"/>
              </a:solidFill>
              <a:latin typeface="Avenir Next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enir Next"/>
              </a:rPr>
              <a:t>More in common with the voter</a:t>
            </a:r>
            <a:endParaRPr b="0" lang="en-US" sz="2000" spc="-1" strike="noStrike">
              <a:solidFill>
                <a:srgbClr val="000000"/>
              </a:solidFill>
              <a:latin typeface="Avenir Next"/>
            </a:endParaRPr>
          </a:p>
        </p:txBody>
      </p:sp>
      <p:pic>
        <p:nvPicPr>
          <p:cNvPr id="3013" name="Picture 7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0770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Canadian Case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Increased number of LGBTQ+ candidates (69) yet still under-represented in Parliament (8)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enir Next Regular"/>
              </a:rPr>
              <a:t>Large CES sample with oversampling in key ridings</a:t>
            </a:r>
            <a:endParaRPr b="1" lang="en-US" sz="24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7682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enir Next"/>
              </a:rPr>
              <a:t>Questions that enabled us to identify LGBTQ+ voters 1999 respondents of whom 462 were located in ridings that had a LGBTQ+ candidate</a:t>
            </a:r>
            <a:endParaRPr b="0" lang="en-US" sz="2000" spc="-1" strike="noStrike">
              <a:solidFill>
                <a:srgbClr val="000000"/>
              </a:solidFill>
              <a:latin typeface="Avenir Next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enir Next Regular"/>
              </a:rPr>
              <a:t>SMP system with 338 different elections</a:t>
            </a:r>
            <a:endParaRPr b="1" lang="en-US" sz="2600" spc="-1" strike="noStrike">
              <a:solidFill>
                <a:srgbClr val="000000"/>
              </a:solidFill>
              <a:latin typeface="Avenir Next Regular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enir Next Regular"/>
              </a:rPr>
              <a:t>Multiparty system with 4-5 parties and often minor parties or independents</a:t>
            </a:r>
            <a:endParaRPr b="1" lang="en-US" sz="2600" spc="-1" strike="noStrike">
              <a:solidFill>
                <a:srgbClr val="000000"/>
              </a:solidFill>
              <a:latin typeface="Avenir Next Regular"/>
            </a:endParaRPr>
          </a:p>
          <a:p>
            <a:pPr lvl="1" marL="7682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venir Next"/>
              </a:rPr>
              <a:t>NDP (41), Liberals (12), Green (9), CPC (4), PPC (1) indep (1)</a:t>
            </a:r>
            <a:endParaRPr b="0" lang="en-US" sz="2000" spc="-1" strike="noStrike">
              <a:solidFill>
                <a:srgbClr val="000000"/>
              </a:solidFill>
              <a:latin typeface="Avenir Next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venir Next Regular"/>
              </a:rPr>
              <a:t>No party was obviously anti-LGBTQ+</a:t>
            </a:r>
            <a:endParaRPr b="1" lang="en-US" sz="26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d42a33"/>
                </a:solidFill>
                <a:latin typeface="Avenir Next Demi Bold"/>
              </a:rPr>
              <a:t>Hypotheses</a:t>
            </a:r>
            <a:endParaRPr b="0" lang="en-US" sz="3800" spc="-1" strike="noStrike">
              <a:solidFill>
                <a:srgbClr val="d42a33"/>
              </a:solidFill>
              <a:latin typeface="Avenir Next Demi Bold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enir Next Regular"/>
              </a:rPr>
              <a:t>H1 – </a:t>
            </a:r>
            <a:r>
              <a:rPr b="0" lang="en-US" sz="2200" spc="-1" strike="noStrike">
                <a:solidFill>
                  <a:srgbClr val="000000"/>
                </a:solidFill>
                <a:latin typeface="Avenir Next Regular"/>
              </a:rPr>
              <a:t>LGBTQ+ voters will be </a:t>
            </a:r>
            <a:r>
              <a:rPr b="0" i="1" lang="en-US" sz="2200" spc="-1" strike="noStrike">
                <a:solidFill>
                  <a:srgbClr val="000000"/>
                </a:solidFill>
                <a:latin typeface="Avenir Next Regular"/>
              </a:rPr>
              <a:t>more politically engaged </a:t>
            </a:r>
            <a:r>
              <a:rPr b="0" lang="en-US" sz="2200" spc="-1" strike="noStrike">
                <a:solidFill>
                  <a:srgbClr val="000000"/>
                </a:solidFill>
                <a:latin typeface="Avenir Next Regular"/>
              </a:rPr>
              <a:t>than other marginalized groups.</a:t>
            </a:r>
            <a:endParaRPr b="1" lang="en-US" sz="2200" spc="-1" strike="noStrike">
              <a:solidFill>
                <a:srgbClr val="000000"/>
              </a:solidFill>
              <a:latin typeface="Avenir Next Regular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enir Next Regular"/>
              </a:rPr>
              <a:t>H2 – </a:t>
            </a:r>
            <a:r>
              <a:rPr b="0" lang="en-US" sz="2200" spc="-1" strike="noStrike">
                <a:solidFill>
                  <a:srgbClr val="000000"/>
                </a:solidFill>
                <a:latin typeface="Avenir Next Regular"/>
              </a:rPr>
              <a:t>LGBTQ+ voters in ridings with a LGBTQ+ candidate will be </a:t>
            </a:r>
            <a:r>
              <a:rPr b="0" i="1" lang="en-US" sz="2200" spc="-1" strike="noStrike">
                <a:solidFill>
                  <a:srgbClr val="000000"/>
                </a:solidFill>
                <a:latin typeface="Avenir Next Regular"/>
              </a:rPr>
              <a:t>more politically empowered </a:t>
            </a:r>
            <a:r>
              <a:rPr b="0" lang="en-US" sz="2200" spc="-1" strike="noStrike">
                <a:solidFill>
                  <a:srgbClr val="000000"/>
                </a:solidFill>
                <a:latin typeface="Avenir Next Regular"/>
              </a:rPr>
              <a:t>(turnout, interest, attention, discussion about politics more, and participation in the election campaign) than other LGBTQ+ voters.</a:t>
            </a:r>
            <a:endParaRPr b="1" lang="en-US" sz="2200" spc="-1" strike="noStrike">
              <a:solidFill>
                <a:srgbClr val="000000"/>
              </a:solidFill>
              <a:latin typeface="Avenir Next Regular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enir Next Regular"/>
              </a:rPr>
              <a:t>H3 – </a:t>
            </a:r>
            <a:r>
              <a:rPr b="0" lang="en-US" sz="2200" spc="-1" strike="noStrike">
                <a:solidFill>
                  <a:srgbClr val="000000"/>
                </a:solidFill>
                <a:latin typeface="Avenir Next Regular"/>
              </a:rPr>
              <a:t>LGBTQ+ voters in ridings with a LGBTQ+ candidate will be </a:t>
            </a:r>
            <a:r>
              <a:rPr b="0" i="1" lang="en-US" sz="2200" spc="-1" strike="noStrike">
                <a:solidFill>
                  <a:srgbClr val="000000"/>
                </a:solidFill>
                <a:latin typeface="Avenir Next Regular"/>
              </a:rPr>
              <a:t>more efficacious and satisfied with democracy </a:t>
            </a:r>
            <a:r>
              <a:rPr b="0" lang="en-US" sz="2200" spc="-1" strike="noStrike">
                <a:solidFill>
                  <a:srgbClr val="000000"/>
                </a:solidFill>
                <a:latin typeface="Avenir Next Regular"/>
              </a:rPr>
              <a:t>in Canada.</a:t>
            </a:r>
            <a:endParaRPr b="1" lang="en-US" sz="2200" spc="-1" strike="noStrike">
              <a:solidFill>
                <a:srgbClr val="000000"/>
              </a:solidFill>
              <a:latin typeface="Avenir Next Regular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venir Next Regular"/>
              </a:rPr>
              <a:t>H4 – </a:t>
            </a:r>
            <a:r>
              <a:rPr b="0" lang="en-US" sz="2200" spc="-1" strike="noStrike">
                <a:solidFill>
                  <a:srgbClr val="000000"/>
                </a:solidFill>
                <a:latin typeface="Avenir Next Regular"/>
              </a:rPr>
              <a:t>LGBTQ+ candidates will have little impact on LGBTQ+ voters’ </a:t>
            </a:r>
            <a:r>
              <a:rPr b="0" i="1" lang="en-US" sz="2200" spc="-1" strike="noStrike">
                <a:solidFill>
                  <a:srgbClr val="000000"/>
                </a:solidFill>
                <a:latin typeface="Avenir Next Regular"/>
              </a:rPr>
              <a:t>non-campaign political engagement </a:t>
            </a:r>
            <a:r>
              <a:rPr b="0" lang="en-US" sz="2200" spc="-1" strike="noStrike">
                <a:solidFill>
                  <a:srgbClr val="000000"/>
                </a:solidFill>
                <a:latin typeface="Avenir Next Regular"/>
              </a:rPr>
              <a:t>(attending political meetings and participating in protests, rallies or political boycotts).</a:t>
            </a:r>
            <a:endParaRPr b="1" lang="en-US" sz="2200" spc="-1" strike="noStrike">
              <a:solidFill>
                <a:srgbClr val="000000"/>
              </a:solidFill>
              <a:latin typeface="Avenir Next Regular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200" spc="-1" strike="noStrike">
              <a:solidFill>
                <a:srgbClr val="000000"/>
              </a:solidFill>
              <a:latin typeface="Avenir Nex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96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d42a33"/>
                </a:solidFill>
                <a:latin typeface="Avenir Next Demi Bold"/>
              </a:rPr>
              <a:t>H1 – LGBTQ+ voters will be more politically engaged than other marginalized groups.</a:t>
            </a:r>
            <a:endParaRPr b="0" lang="en-US" sz="3200" spc="-1" strike="noStrike">
              <a:solidFill>
                <a:srgbClr val="d42a33"/>
              </a:solidFill>
              <a:latin typeface="Avenir Next Demi Bold"/>
            </a:endParaRPr>
          </a:p>
        </p:txBody>
      </p:sp>
      <p:pic>
        <p:nvPicPr>
          <p:cNvPr id="3019" name="Picture 20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840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18:24:13Z</dcterms:created>
  <dc:creator>Default</dc:creator>
  <dc:description/>
  <dc:language>en-US</dc:language>
  <cp:lastModifiedBy>Oram</cp:lastModifiedBy>
  <cp:lastPrinted>2018-01-12T14:18:27Z</cp:lastPrinted>
  <dcterms:modified xsi:type="dcterms:W3CDTF">2022-09-02T20:30:06Z</dcterms:modified>
  <cp:revision>111</cp:revision>
  <dc:subject/>
  <dc:title>Issues of Representation in New Brunswic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62649DB353D914E9406DF87E719C992</vt:lpwstr>
  </property>
</Properties>
</file>